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8691-4930-4AE3-8FF6-F7D166C2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9208-1C77-4ACA-A5D6-15B88598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A585-1B20-4573-AA6A-1464D1A3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C99C-0C37-4AD7-9BF4-633CFFD4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D222-0788-4610-8B53-B5CA0AEB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95B6-45E1-4399-A06A-3B88D354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C7AC-FFAB-4CB3-9FC9-C1EB503F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8971-4569-465B-A443-97AF9557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CABE-CCFB-4AC7-A9F8-A3DF0410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11D5-E4A1-4F21-87D6-EBCC7D0A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3110-10EF-4FF7-BB53-3F6C65BC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AF41-8F01-4A2A-967B-F6625D9B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7AB9-54D6-4C95-8683-D4B53894E8D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Zástupný symbol pro obsah 3" descr=""/>
          <p:cNvPicPr/>
          <p:nvPr/>
        </p:nvPicPr>
        <p:blipFill>
          <a:blip r:embed="rId1"/>
          <a:stretch/>
        </p:blipFill>
        <p:spPr>
          <a:xfrm>
            <a:off x="503280" y="981000"/>
            <a:ext cx="8101080" cy="1656000"/>
          </a:xfrm>
          <a:prstGeom prst="rect">
            <a:avLst/>
          </a:prstGeom>
          <a:ln w="0">
            <a:noFill/>
          </a:ln>
        </p:spPr>
      </p:pic>
      <p:sp>
        <p:nvSpPr>
          <p:cNvPr id="42" name="TextovéPole 2"/>
          <p:cNvSpPr/>
          <p:nvPr/>
        </p:nvSpPr>
        <p:spPr>
          <a:xfrm>
            <a:off x="900000" y="342900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ojektový zámě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Moderní škola, moderní výu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EU peníze středním školá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řední škola sociální péče a služeb, Zábřeh, nám. 8. květn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uži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angličtině se používá trpný rod mnohem častěji než v češtin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ajímá-li nás více děj než původ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: Jane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as been promote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nu povýši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 odborných textech, ve zpravodajství,  v obchodní koresponden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: The Olympic Games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were declared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y the pres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lympijské hry zahájil prezi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ečné inform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teriál je určen pro bezplatné používání pro potřeby výuky a vzdělávání na všech typech škol a školských zařízeních. Jakékoliv další využití podléhá autorskému záko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e:BELÁN, J.Odmaturuj z anglického jazy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DAKTIS 2004,ISBN 80-86285-85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statní objekty a text je vlastní originální tvorbou autora nebo jsou součástí softwaru Microsoft® Off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 rot="20566200">
            <a:off x="1961280" y="2569680"/>
            <a:ext cx="508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6000" spc="-1" strike="noStrike">
                <a:solidFill>
                  <a:srgbClr val="000000"/>
                </a:solidFill>
                <a:latin typeface="Arial"/>
              </a:rPr>
              <a:t>TRPNÝ   RO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Tvoření trpného rod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e + 3.tvar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namového slov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příčestí minul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Časuje s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ze sloveso „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vary v trpném rodě podle slovesných časů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42920" y="1989000"/>
          <a:ext cx="7321680" cy="3565800"/>
        </p:xfrm>
        <a:graphic>
          <a:graphicData uri="http://schemas.openxmlformats.org/drawingml/2006/table">
            <a:tbl>
              <a:tblPr/>
              <a:tblGrid>
                <a:gridCol w="3097440"/>
                <a:gridCol w="422424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tomný prost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/is/ are  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tomný průběhov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/is /are being cook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ulý prost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/ were brok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ulý průběhov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/ were being pai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přítomn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/has been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inul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been cook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ouc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be repa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ing 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/ is/ are going to be ser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působová slov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/must/ have to be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klady - přítomný č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ine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s mad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rom gra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íno se vyrábí z hrozn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 letter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s being written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ight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ě teď je psán dop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cars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duce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in this fac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rábí se v této továrně au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is computer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s not being used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 the mo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to počítač momentálně nikdo nepoužív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klady – minulý č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is window was broken las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kno bylo rozbito minulou no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is film was directed by Hitchc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to film režíroval Hitchc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s your dad operated last we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yl tvůj otec operován minulý tý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is drama wasn´t written by Shakespe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to drama nenapsal Shakespe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klady – předpřítomný č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560" y="2205000"/>
            <a:ext cx="8569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 project has been star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zač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ve you been introduced to my girlfri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ž jsi byl představen mé přítelkyn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 job hasn´t been offered to anyone y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ce nabyla nikomu nabídnu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klady- budoucí č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verything will be explained to you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ítra vám bude vše vysvětl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ill we be invi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udeme pozván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 won´t be forgiven for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 mu nebude odpuště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ow is the problem going to be sol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se bude problém řeš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edložky v trpném rod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ástroj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úmyslný děj, používáme předložku 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The letter was written with a 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Dopis byl napsán per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edmět/ původce děj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– neúmyslný děj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íváme předložku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America was discovered by Columb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Ameriku objevil Kolumb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cat was hit by a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Moji kočku srazilo au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21:57:09Z</dcterms:created>
  <dc:creator> </dc:creator>
  <dc:description/>
  <dc:language>en-US</dc:language>
  <cp:lastModifiedBy>uzivatel</cp:lastModifiedBy>
  <dcterms:modified xsi:type="dcterms:W3CDTF">2013-06-09T04:36:09Z</dcterms:modified>
  <cp:revision>11</cp:revision>
  <dc:subject/>
  <dc:title>Snímek 1</dc:title>
</cp:coreProperties>
</file>