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CA7-0CB1-4CC7-8F7F-FDA5E520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D19-13BF-4290-96E8-E32F418D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76E-6802-4263-9E74-67F6C4DC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1E3-EADE-487B-95BF-DB322B43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0B0-BA08-49FF-9000-B734F757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1B3-F30E-46E6-A14E-251DA2A8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266-2625-4BEB-A4F5-3D390E9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4B6-D44A-4315-B01B-53B9DCF2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EAF-7400-4510-9DFF-E23EB5C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E86-3E54-45C8-B98F-D9EF1C0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FB6-617B-48A0-8BE8-4408E7A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49D-53A0-451E-8D55-7AA1E02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A749-130C-461A-A41D-BA1194EC02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c/Muffins_in_oven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User:Fir0002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9/New_York-stylestrawberrykolache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en.wikipedia.org/wiki/File:New_York-stylestrawberrykolache.jpg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7/J.CO_Donuts_aren%27t_photography_materials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en.wikipedia.org/wiki/File:J.CO_Donuts_aren%27t_photography_materials.jpg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0/0e/Pecan_and_Maple_Danish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File:Pecan_and_Maple_Danish.JP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9/CrispyGingerbreadCookie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commons.wikimedia.org/wiki/File:CrispyGingerbreadCookies.jp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8/R&#367;zn&#233;_druhy_cukrov&#237;_%282%2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en.wikipedia.org/wiki/File:R&#367;zn&#233;_druhy_cukrov&#237;_(2).jpg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4/3_Biscuit_rose_de_Reims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en.wikipedia.org/wiki/File:3_Biscuit_rose_de_Reims.jpg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5/GermanChocolateCake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a/a5/GermanChocolateCake.jpg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8/Sachertorte_DSC03027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ommons.wikimedia.org/wiki/File:Sachertorte_DSC03027.JPG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3/HK_Food_Swiss_Roll_Saint_Honore_Cak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HK_Food_Swiss_Roll_Saint_Honore_Cake.JPG" TargetMode="External"/><Relationship Id="rId4" Type="http://schemas.openxmlformats.org/officeDocument/2006/relationships/hyperlink" Target="http://en.wikipedia.org/wiki/File:HK_Food_Swiss_Roll_Saint_Honore_Cake.JPG" TargetMode="External"/><Relationship Id="rId5" Type="http://schemas.openxmlformats.org/officeDocument/2006/relationships/hyperlink" Target="file://commons.wikimedia.org/w/index.php%3Ftitle=User:Maximswess&amp;action=edit&amp;redlink=1" TargetMode="External"/><Relationship Id="rId6" Type="http://schemas.openxmlformats.org/officeDocument/2006/relationships/hyperlink" Target="file://commons.wikimedia.org/w/index.php%3Ftitle=User:Maximswess&amp;action=edit&amp;redlink=1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0/09/MinnesotaCountyFairApplePie200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commons.wikimedia.org/wiki/File:MinnesotaCountyFairApplePie2006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0/Palatschinke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commons.wikimedia.org/wiki/File:Palatschinke.jpg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7/Omas_Apfelstrudel_aus_Prag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File:Omas_Apfelstrudel_aus_Prag.jpg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a/Poffert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File:Poffert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116000" y="2276640"/>
            <a:ext cx="6985080" cy="2520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Georgia"/>
              </a:rPr>
              <a:t>DESSER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File:Muffins in ov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28800"/>
            <a:ext cx="7619760" cy="5000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23600" y="6019920"/>
            <a:ext cx="404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Muffins in oven.jpg, Fir0002 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User:Fir0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736200" y="208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FF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800px-New_York-stylestrawberrykolach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48360" y="6307200"/>
            <a:ext cx="580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New York-stylestrawberrykolache.jpg, Ralph Smith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New_York-stylestrawberrykolach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809280" y="651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ile:J.CO Donuts aren't photography materia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9000" y="576360"/>
            <a:ext cx="7506000" cy="5705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734040" y="6340320"/>
            <a:ext cx="679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J.CO Donuts aren't photography materials.jpg, basibanget, CC BY_SA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J.CO_Donuts_aren%27t_photography_material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81640" y="65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UGH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ile:Pecan and Maple Danis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52520"/>
            <a:ext cx="7619760" cy="4152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577800" y="5659560"/>
            <a:ext cx="54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Pecan and Maple Danish.JPG, Yohan euan o4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Pecan_and_Maple_Danis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09640" y="496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rispyGingerbreadCook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765000"/>
            <a:ext cx="6408720" cy="4104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50200" y="5516640"/>
            <a:ext cx="57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CrispyGingerbreadCookies.jpg, Alcinoe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iki/File:CrispyGingerbreadCooki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86000" y="2080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INGER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File:Různé druhy cukroví (2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48720" y="6307200"/>
            <a:ext cx="70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Různé druhy cukroví (2).jpg, Dezidor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R%C5%AFzn%C3%A9_druhy_cukrov%C3%AD_(2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36200" y="651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le:3 Biscuit rose de Reim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4764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720000" y="6235560"/>
            <a:ext cx="50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3 Biscuit rose de Reims.jpg, Cherry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3_Biscuit_rose_de_Reim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09640" y="2080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S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1"/>
          <p:cNvSpPr/>
          <p:nvPr/>
        </p:nvSpPr>
        <p:spPr>
          <a:xfrm>
            <a:off x="1463400" y="6332400"/>
            <a:ext cx="408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ile:Italian ice cream.jpg, Alessio Damato, CC BY_S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http://en.wikipedia.org/wiki/File:Italian_ice_cre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57640" y="1364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E C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Buchta_01"/>
          <p:cNvPicPr/>
          <p:nvPr/>
        </p:nvPicPr>
        <p:blipFill>
          <a:blip r:embed="rId1"/>
          <a:stretch/>
        </p:blipFill>
        <p:spPr>
          <a:xfrm>
            <a:off x="1100160" y="814320"/>
            <a:ext cx="6943680" cy="5229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058760" y="6226200"/>
            <a:ext cx="632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oubor:Buchta 01.jpg, Svobodat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ttp://cs.wikipedia.org/wiki/Soubor:Buchta_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68560" y="423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EMIAN  B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800px-Vanocka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652320" y="6235560"/>
            <a:ext cx="36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Vanocka.jpg, Ludek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ttp://en.wikipedia.org/wiki/File:Vanoc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81280" y="13644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ISTMAS  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s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ually sweet meal that is served after lun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sert course includes mostly sweet foods. There is a wide variety of dessert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kes, cookies, biscuits,ice creams, pies, pud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424980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1"/>
          <p:cNvSpPr/>
          <p:nvPr/>
        </p:nvSpPr>
        <p:spPr>
          <a:xfrm>
            <a:off x="1610280" y="5805360"/>
            <a:ext cx="435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ile:Christmas pudding.JPG, Musical Linguist, CC BY_S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http://en.wikipedia.org/wiki/File:Christmas_pudd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18000" y="35244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ISTMAS  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745200" y="6334200"/>
            <a:ext cx="694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Pudding With Raspberries and Whipped Cream.jpg, Ilikefood,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ttp://en.wikipedia.org/wiki/File:Pudding_With_Raspberries_and_Whipped_Crea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65280" y="136440"/>
            <a:ext cx="59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DING  WITH RASPBERRY AND WHIPPED C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476360" y="571680"/>
            <a:ext cx="5832360" cy="559404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1"/>
          <p:cNvSpPr/>
          <p:nvPr/>
        </p:nvSpPr>
        <p:spPr>
          <a:xfrm>
            <a:off x="1388520" y="6381720"/>
            <a:ext cx="613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Sweet Summer Rainbow Fruit Salad.jpg, Pink Sherbet , CC BY_SA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ttp://en.wikipedia.org/wiki/File:Sweet_Summer_Rainbow_Fruit_Sala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457280" y="136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UIT 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500280" y="2833560"/>
            <a:ext cx="2143440" cy="119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ovéPole 3"/>
          <p:cNvSpPr/>
          <p:nvPr/>
        </p:nvSpPr>
        <p:spPr>
          <a:xfrm>
            <a:off x="782280" y="5950080"/>
            <a:ext cx="419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Soubor:Cheese platter.jpg, Dorina Andress, CC BY_S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http://cs.wikipedia.org/wiki/Soubor:Cheese_platt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36560" y="5684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ESE 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2"/>
          <p:cNvSpPr/>
          <p:nvPr/>
        </p:nvSpPr>
        <p:spPr>
          <a:xfrm>
            <a:off x="971640" y="2060640"/>
            <a:ext cx="69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akékoliv další využití podléhá autorskému záko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rázky: zdroje uvedeny v textu (k 2.9.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Microsoft® Of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ile:GermanChocolateCa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5716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54764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GermanChocolateCake.jpg, Tracy Hunter, CC BY_SA 2.0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pload.wikimedia.org/wikipedia/commons/a/a5/GermanChocolateCak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393640" y="-79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COLATE  C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ile:Sachertorte DSC0302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042920" y="630864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Sachertorte DSC03027.JPG, David Monniaux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iki/File:Sachertorte_DSC030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37280" y="1364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CHER  C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800px-HK_Food_Swiss_Roll_Saint_Honore_Ca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726120" y="6307200"/>
            <a:ext cx="652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HK Food Swiss Roll Saint Honore Cake.JPG,Maximsvess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HK_Food_Swiss_Roll_Saint_Honore_Cake.JP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>
            <a:hlinkClick r:id="rId5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>
            <a:hlinkClick r:id="rId6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09280" y="651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WISS 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ile:MinnesotaCountyFairApplePie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76360"/>
            <a:ext cx="7315200" cy="570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628020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MinnesotaCountyFairApplePie2006.JPG, CC &amp; GFDL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iki/File:MinnesotaCountyFairApplePie200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80560" y="1364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PLE  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File:Palatschin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38160"/>
            <a:ext cx="7619760" cy="4981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92360" y="6165720"/>
            <a:ext cx="54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Palatschinke.jpg, K@rl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iki/File:Palatschink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10360" y="4968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C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Omas_Apfelstrudel_aus_Pr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80960" y="1109520"/>
            <a:ext cx="6382080" cy="4638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76360" y="5877000"/>
            <a:ext cx="59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Omas Apfelstrudel aus Prag.jpg, Petra Dostalova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Omas_Apfelstrudel_aus_Pra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386360" y="56844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PLE  STRU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File:Poffe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576360"/>
            <a:ext cx="7143840" cy="5705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39240" y="6235560"/>
            <a:ext cx="346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le:Poffert.jpg, Hohum, CC BY_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ile:Poffer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25640" y="651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NDT  C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7:28:21Z</dcterms:created>
  <dc:creator> </dc:creator>
  <dc:description/>
  <dc:language>en-US</dc:language>
  <cp:lastModifiedBy>uzivatel</cp:lastModifiedBy>
  <dcterms:modified xsi:type="dcterms:W3CDTF">2012-11-28T15:57:53Z</dcterms:modified>
  <cp:revision>13</cp:revision>
  <dc:subject/>
  <dc:title>Snímek 1</dc:title>
</cp:coreProperties>
</file>