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wmf" ContentType="image/x-wmf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D0D3-83E7-40BD-AFA4-7B18F8A7BB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Tuto šablonu lze použít jako počáteční soubor pro aktualizace projektu. projekt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alibri"/>
              </a:rPr>
              <a:t>Oddí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Po kliknutí na snímek pravým tlačítkem myši lze přidat oddíly. Oddíly mohou pomoci uspořádat snímky nebo usnadnit spolupráci mezi více autor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alibri"/>
              </a:rPr>
              <a:t>Poznámk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Oddíl Poznámky použijte k zadání poznámek k doručení nebo dalších podrobností pro posluchače. Tyto poznámky lze zobrazit během prezentac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ezměte v úvahu velikost písma (důležité pro usnadnění, viditelnost, pořízení videozáznamu a online provoz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alibri"/>
              </a:rPr>
              <a:t>Sladěné barvy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ěnujte zvláštní pozornost grafům a textovým polím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Zvažte, zda účastníci budou tisknout černobíle nebo ve stupních šedé. Provedením zkušebního tisku ověřte, zda barvy fungují správně při vytištění černobíle i ve stupních šedé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alibri"/>
              </a:rPr>
              <a:t>Obrázky, tabulky a graf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saďte na jednoduchost: pokud je to možné, použijte konzistentní a nerušivé styly a barv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Označte popisky všechny grafy a tabulk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1950-5D2D-46BF-93B5-E1546061DD26}" type="slidenum">
              <a:rPr b="0" lang="cs-CZ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eho se projekt týká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efinujte cíl tohoto projekt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dobá se projektům v minulosti, nebo se jedná o novou záležito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efinujte rozsah tohoto projekt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Jedná se o nezávislý projekt, nebo souvisí s jinými projek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* Všimněte si, že tento snímek není nutný pro týdenní schůzky shrnující stav projekt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4B3F-1D7C-4587-81FC-2DA1EB3CCCF3}" type="slidenum">
              <a:rPr b="0" lang="cs-CZ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F5C6-6F4B-4160-9A6A-DF21ED756CD4}" type="slidenum">
              <a:rPr b="0" lang="cs-CZ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eho se projekt týká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efinujte cíl tohoto projekt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dobá se projektům v minulosti, nebo se jedná o novou záležito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efinujte rozsah tohoto projekt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Jedná se o nezávislý projekt, nebo souvisí s jinými projek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* Všimněte si, že tento snímek není nutný pro týdenní schůzky shrnující stav projekt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4691-0CE9-4379-BAA0-ED519F19F645}" type="slidenum">
              <a:rPr b="0" lang="cs-CZ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* V případě, že kterékoli z těchto problémů způsobí zpoždění plánu nebo vyžadují hlubší diskusi, uveďte podrobnosti na dalším snímk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9767-E81B-4133-9D50-430BA47456FF}" type="slidenum">
              <a:rPr b="0" lang="cs-CZ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uplikujte tento snímek podle potřeby, pokud existuje více než jedno vydání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Tento a související snímky mohou být přesunuty do dodatku nebo skryty, je-li třeb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1B0C-BBF1-4A2A-9174-8C436FD9D14C}" type="slidenum">
              <a:rPr b="0" lang="cs-CZ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sledující snímky zobrazit několik příkladů časové osy pomocí obrázků SmartA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ůžete zahrnout časovou osu projektu s jasným označením milníků a důležitých dat a označit, kde se projekt nachází nyní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B0D4-893A-4E77-88C5-A9ED349F9071}" type="slidenum">
              <a:rPr b="0" lang="cs-CZ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sledující snímky zobrazit několik příkladů časové osy pomocí obrázků SmartA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ůžete zahrnout časovou osu projektu s jasným označením milníků a důležitých dat a označit, kde se projekt nachází nyní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CFFD-E483-4F3E-B777-B5D06D4197DE}" type="slidenum">
              <a:rPr b="0" lang="cs-CZ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714A-7359-401E-B0FC-252DB56E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47D5-BED7-438D-B8DD-23DE2D36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FB37-624C-4243-9915-AF8F5EC21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28B6-D7C1-4A26-AA30-E3835FCE4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6B2B-C272-4E6F-8C32-F7EC4FCC3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04D7-71E0-474E-9361-FE48369C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2DEE-C0FA-4591-85A9-B9E667F9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CBB1-5E28-4AC6-8463-DA5C5761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3809-3260-49DD-B9E4-B1EAF424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BCE6-15B8-46E8-88A0-F11BEF0E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593C-1AC8-46A7-BC46-DA801CE9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687A-7152-4FCD-A534-0AE3D127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BD2F-9A75-4276-B7D3-18F9B445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36E6-EC68-40E2-A4A2-CBC7C3D4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5A8C-BB68-492E-9D63-59DDD203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E422-B28F-4FD4-88F0-203740C9D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9160-80EF-4FD2-99F7-F6DEBD057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7B25B-D90F-4332-9BB8-C8EF5733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BD2D6-7D7F-4E5E-9A69-068B9C47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8BDE2-B5C4-4368-AEC5-C41D79BA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95EFF-0A2F-4869-BA73-B9F700A1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34A07-ECFC-4642-8AF5-E204F344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F8D4-EB5A-4A7B-A500-152FD95C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F1E36-CA3E-42B7-A900-5FA3EA6B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F03C0-D0B8-4C7C-8DF8-03E16EC0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A8F8F-C18D-4726-A940-4E8AD986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2EB31-554B-41CC-93AB-BBF7B0BC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4DC02-9E93-4A4C-BECA-20BA64EB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6029B-AA45-44D0-9643-95F496BF9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1E18A-3781-4F79-ABDE-A345FEE21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CE972-BE35-4AB6-A0E1-BA0467E5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7BFDE-3A71-4EA5-BB74-8A79994B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1CC23-07FC-4823-ADD9-29638930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229B-7FF2-4E09-9935-38E298B5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8B2CB-65CE-4450-892B-8A6F7DD8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778D8-D796-4435-93C5-99BE1A28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4A9A4-3FC3-4EE5-B507-35646B9C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F089E-1036-41B7-B43A-028040C5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537CB-707F-4716-94AB-D7BBCDCD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06144-86EE-471C-8945-EA9A80EB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DD510-19CC-4CE0-96EB-C9EE0F8E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22C86-37DA-48F7-AAFD-8453DB5C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F691C-E197-48E3-A43C-16B3F6C79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2E5B1-0A23-4856-9678-3D05D4512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3967-0756-40D0-A5D5-4303CF17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70BC9-490C-4E67-9906-3559E16C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A1417-3130-4A11-A915-C33D1F3D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8F65F-0470-41AE-AC6E-2FC1C51F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5B392-E594-4967-870E-F99D027A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634CF-0133-409E-B346-538FAFA6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CF1F9-933C-4350-81FE-7D4BCCFE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75F04-BE02-434D-BE12-81C07F90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614E8-367C-4BDC-A5B9-34FD13CF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BCEEB-97E9-43BE-82B7-957DF9F7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ADF6A-8016-460A-9B86-BE594BFF0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3CE2-E4FF-4112-9634-BC848A6A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F04A6-2784-459C-9A00-95FCBA98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9BDC-CECE-45D1-9020-B080F4D1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3D2F-D840-431D-AC74-B3D885CA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2D63-F124-4F8D-9F11-708B84DF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75D5-B909-43AD-ACD9-6848155785A5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92BC-8E83-402B-A4C3-644BE895AE00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5C16-6A38-42C1-B77D-D756C807CE86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7198-4FFC-4C84-8C53-CDF35E6B8B9D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7283-92B9-4193-9EEC-741CF09155E9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57576e"/>
                </a:solidFill>
                <a:latin typeface="Arial"/>
              </a:rPr>
              <a:t>VEŘEJNÝ SEKTOR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Content Placeholder 4"/>
          <p:cNvSpPr/>
          <p:nvPr/>
        </p:nvSpPr>
        <p:spPr>
          <a:xfrm>
            <a:off x="755640" y="1339920"/>
            <a:ext cx="770400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219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34"/>
                </a:solidFill>
                <a:latin typeface="Arial"/>
              </a:rPr>
              <a:t>Příklad pozitivní externality: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6480" indent="219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292934"/>
                </a:solidFill>
                <a:latin typeface="Arial"/>
              </a:rPr>
              <a:t>Do zahrádkářské kolonie se přistěhoval včelař. Jeho včely mu přinášejí výnos z medu. Avšak jeho včely opilují ostatním sadařům jejich stromy a jejich úroda roste, tedy i jejich zisk. Činnost včelaře tak přináší užitek i ostatním, kteří za něj ovšem neplatí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6" name="Picture 3" descr="C:\Users\uzivatel\AppData\Local\Microsoft\Windows\Temporary Internet Files\Content.IE5\I63F7OTC\MC900354035[1].wmf"/>
          <p:cNvPicPr/>
          <p:nvPr/>
        </p:nvPicPr>
        <p:blipFill>
          <a:blip r:embed="rId1"/>
          <a:stretch/>
        </p:blipFill>
        <p:spPr>
          <a:xfrm>
            <a:off x="6659640" y="4470480"/>
            <a:ext cx="2230200" cy="2082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MCj01980580000[1]"/>
          <p:cNvPicPr/>
          <p:nvPr/>
        </p:nvPicPr>
        <p:blipFill>
          <a:blip r:embed="rId2"/>
          <a:stretch/>
        </p:blipFill>
        <p:spPr>
          <a:xfrm>
            <a:off x="900000" y="4776840"/>
            <a:ext cx="2232000" cy="182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Content Placeholder 4"/>
          <p:cNvSpPr/>
          <p:nvPr/>
        </p:nvSpPr>
        <p:spPr>
          <a:xfrm>
            <a:off x="755640" y="1339920"/>
            <a:ext cx="77040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219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34"/>
                </a:solidFill>
                <a:latin typeface="Arial"/>
              </a:rPr>
              <a:t>Veřejné statky </a:t>
            </a:r>
            <a:r>
              <a:rPr b="0" lang="cs-CZ" sz="2600" spc="-1" strike="noStrike">
                <a:solidFill>
                  <a:srgbClr val="292934"/>
                </a:solidFill>
                <a:latin typeface="Arial"/>
              </a:rPr>
              <a:t>jsou takové statky a služby, které jsou více či méně užitečné celé společnosti, a proto je veřejný zájem na jejich zabezpečování. Jsou spotřebovávány kolektivně. 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9" name="Picture 3" descr="C:\Users\uzivatel\AppData\Local\Microsoft\Windows\Temporary Internet Files\Content.IE5\E93304AY\MP900434089[1].jpg"/>
          <p:cNvPicPr/>
          <p:nvPr/>
        </p:nvPicPr>
        <p:blipFill>
          <a:blip r:embed="rId1"/>
          <a:stretch/>
        </p:blipFill>
        <p:spPr>
          <a:xfrm>
            <a:off x="914400" y="4076640"/>
            <a:ext cx="3657600" cy="24354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C:\Users\uzivatel\AppData\Local\Microsoft\Windows\Temporary Internet Files\Content.IE5\EUZ7C3HW\MP900201172[1].jpg"/>
          <p:cNvPicPr/>
          <p:nvPr/>
        </p:nvPicPr>
        <p:blipFill>
          <a:blip r:embed="rId2"/>
          <a:stretch/>
        </p:blipFill>
        <p:spPr>
          <a:xfrm>
            <a:off x="4813200" y="407340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Content Placeholder 4"/>
          <p:cNvSpPr/>
          <p:nvPr/>
        </p:nvSpPr>
        <p:spPr>
          <a:xfrm>
            <a:off x="755640" y="836640"/>
            <a:ext cx="7704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34"/>
                </a:solidFill>
                <a:latin typeface="Arial"/>
              </a:rPr>
              <a:t>Rozlišujeme veřejné statky: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34"/>
                </a:solidFill>
                <a:latin typeface="Arial"/>
              </a:rPr>
              <a:t>a) </a:t>
            </a:r>
            <a:r>
              <a:rPr b="1" i="1" lang="cs-CZ" sz="2600" spc="-1" strike="noStrike">
                <a:solidFill>
                  <a:srgbClr val="292934"/>
                </a:solidFill>
                <a:latin typeface="Arial"/>
              </a:rPr>
              <a:t>čisté</a:t>
            </a:r>
            <a:r>
              <a:rPr b="0" lang="cs-CZ" sz="2600" spc="-1" strike="noStrike">
                <a:solidFill>
                  <a:srgbClr val="292934"/>
                </a:solidFill>
                <a:latin typeface="Arial"/>
              </a:rPr>
              <a:t> (např. státní správa, služby policie, soudy, obrana státu, využívání veřejných komunikací, veřejného osvětlení, veřejných parků) 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34"/>
                </a:solidFill>
                <a:latin typeface="Arial"/>
              </a:rPr>
              <a:t>b) </a:t>
            </a:r>
            <a:r>
              <a:rPr b="1" i="1" lang="cs-CZ" sz="2600" spc="-1" strike="noStrike">
                <a:solidFill>
                  <a:srgbClr val="292934"/>
                </a:solidFill>
                <a:latin typeface="Arial"/>
              </a:rPr>
              <a:t>smíšené</a:t>
            </a:r>
            <a:r>
              <a:rPr b="0" lang="cs-CZ" sz="2600" spc="-1" strike="noStrike">
                <a:solidFill>
                  <a:srgbClr val="292934"/>
                </a:solidFill>
                <a:latin typeface="Arial"/>
              </a:rPr>
              <a:t> (např. školství) 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2" name="Picture 5" descr="C:\Users\uzivatel\AppData\Local\Microsoft\Windows\Temporary Internet Files\Content.IE5\E93304AY\MP900400849[1].jpg"/>
          <p:cNvPicPr/>
          <p:nvPr/>
        </p:nvPicPr>
        <p:blipFill>
          <a:blip r:embed="rId1"/>
          <a:stretch/>
        </p:blipFill>
        <p:spPr>
          <a:xfrm>
            <a:off x="826920" y="4056120"/>
            <a:ext cx="3706920" cy="2468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C:\Users\uzivatel\AppData\Local\Microsoft\Windows\Temporary Internet Files\Content.IE5\YVLV21P1\MP900399786[1].jpg"/>
          <p:cNvPicPr/>
          <p:nvPr/>
        </p:nvPicPr>
        <p:blipFill>
          <a:blip r:embed="rId2"/>
          <a:stretch/>
        </p:blipFill>
        <p:spPr>
          <a:xfrm>
            <a:off x="4716360" y="4076640"/>
            <a:ext cx="3705480" cy="2470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Content Placeholder 4"/>
          <p:cNvSpPr/>
          <p:nvPr/>
        </p:nvSpPr>
        <p:spPr>
          <a:xfrm>
            <a:off x="755640" y="907920"/>
            <a:ext cx="77040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1520" indent="-3715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292934"/>
                </a:solidFill>
                <a:latin typeface="Arial"/>
              </a:rPr>
              <a:t>Pro </a:t>
            </a:r>
            <a:r>
              <a:rPr b="1" i="1" lang="cs-CZ" sz="2600" spc="-1" strike="noStrike">
                <a:solidFill>
                  <a:srgbClr val="292934"/>
                </a:solidFill>
                <a:latin typeface="Arial"/>
              </a:rPr>
              <a:t>čisté veřejné statky</a:t>
            </a:r>
            <a:r>
              <a:rPr b="0" i="1" lang="cs-CZ" sz="2600" spc="-1" strike="noStrike">
                <a:solidFill>
                  <a:srgbClr val="292934"/>
                </a:solidFill>
                <a:latin typeface="Arial"/>
              </a:rPr>
              <a:t> je charakteristické: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371520" indent="-371520">
              <a:lnSpc>
                <a:spcPct val="150000"/>
              </a:lnSpc>
              <a:buClr>
                <a:srgbClr val="292934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i="1" lang="cs-CZ" sz="2600" spc="-1" strike="noStrike">
                <a:solidFill>
                  <a:srgbClr val="292934"/>
                </a:solidFill>
                <a:latin typeface="Arial"/>
              </a:rPr>
              <a:t>nelze určit podíl jednotlivce na spotřebě veřejného statku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371520" indent="-371520">
              <a:lnSpc>
                <a:spcPct val="150000"/>
              </a:lnSpc>
              <a:buClr>
                <a:srgbClr val="292934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i="1" lang="cs-CZ" sz="2600" spc="-1" strike="noStrike">
                <a:solidFill>
                  <a:srgbClr val="292934"/>
                </a:solidFill>
                <a:latin typeface="Arial"/>
              </a:rPr>
              <a:t>jednotlivce nelze vyloučit ze spotřeby (problém tzv. černého pasažéra) 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371520" indent="-371520">
              <a:lnSpc>
                <a:spcPct val="150000"/>
              </a:lnSpc>
              <a:buClr>
                <a:srgbClr val="292934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i="1" lang="cs-CZ" sz="2600" spc="-1" strike="noStrike">
                <a:solidFill>
                  <a:srgbClr val="292934"/>
                </a:solidFill>
                <a:latin typeface="Arial"/>
              </a:rPr>
              <a:t>spotřeba jedním uživatelem neubírá možnost jinému uživateli spotřebovávat službu 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640" y="914400"/>
            <a:ext cx="464832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2533c"/>
                </a:solidFill>
                <a:latin typeface="Arial"/>
              </a:rPr>
              <a:t>Veřejný</a:t>
            </a:r>
            <a:r>
              <a:rPr b="1" lang="cs-CZ" sz="3600" spc="-1" strike="noStrike">
                <a:solidFill>
                  <a:srgbClr val="d2533c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2533c"/>
                </a:solidFill>
                <a:latin typeface="Arial"/>
              </a:rPr>
              <a:t>sektor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4360" y="1699920"/>
            <a:ext cx="81468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1160" indent="-2811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34"/>
                </a:solidFill>
                <a:latin typeface="Arial"/>
              </a:rPr>
              <a:t>Jedná se o část národního hospodářství, kterou charakterizuje: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34"/>
                </a:solidFill>
                <a:latin typeface="Arial"/>
              </a:rPr>
              <a:t>zabezpečuje veřejné statky</a:t>
            </a:r>
            <a:r>
              <a:rPr b="0" lang="cs-CZ" sz="2200" spc="-1" strike="noStrike">
                <a:solidFill>
                  <a:srgbClr val="292934"/>
                </a:solidFill>
                <a:latin typeface="Arial"/>
              </a:rPr>
              <a:t> pro obyvatelstvo na neziskovém principu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34"/>
                </a:solidFill>
                <a:latin typeface="Arial"/>
              </a:rPr>
              <a:t>o množství a struktuře těchto statků </a:t>
            </a:r>
            <a:r>
              <a:rPr b="1" lang="cs-CZ" sz="2200" spc="-1" strike="noStrike">
                <a:solidFill>
                  <a:srgbClr val="292934"/>
                </a:solidFill>
                <a:latin typeface="Arial"/>
              </a:rPr>
              <a:t>nerozhoduje trh</a:t>
            </a:r>
            <a:r>
              <a:rPr b="0" lang="cs-CZ" sz="2200" spc="-1" strike="noStrike">
                <a:solidFill>
                  <a:srgbClr val="292934"/>
                </a:solidFill>
                <a:latin typeface="Arial"/>
              </a:rPr>
              <a:t>, </a:t>
            </a:r>
            <a:r>
              <a:rPr b="1" lang="cs-CZ" sz="2200" spc="-1" strike="noStrike">
                <a:solidFill>
                  <a:srgbClr val="292934"/>
                </a:solidFill>
                <a:latin typeface="Arial"/>
              </a:rPr>
              <a:t>ale</a:t>
            </a:r>
            <a:r>
              <a:rPr b="0" lang="cs-CZ" sz="2200" spc="-1" strike="noStrike">
                <a:solidFill>
                  <a:srgbClr val="292934"/>
                </a:solidFill>
                <a:latin typeface="Arial"/>
              </a:rPr>
              <a:t> rozhoduje se </a:t>
            </a:r>
            <a:r>
              <a:rPr b="1" lang="cs-CZ" sz="2200" spc="-1" strike="noStrike">
                <a:solidFill>
                  <a:srgbClr val="292934"/>
                </a:solidFill>
                <a:latin typeface="Arial"/>
              </a:rPr>
              <a:t>veřejnou volbou</a:t>
            </a:r>
            <a:r>
              <a:rPr b="0" lang="cs-CZ" sz="2200" spc="-1" strike="noStrike">
                <a:solidFill>
                  <a:srgbClr val="292934"/>
                </a:solidFill>
                <a:latin typeface="Arial"/>
              </a:rPr>
              <a:t>, a to zpravidla nepřímo rozhodováním volených zástupců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34"/>
                </a:solidFill>
                <a:latin typeface="Arial"/>
              </a:rPr>
              <a:t>je financována</a:t>
            </a:r>
            <a:r>
              <a:rPr b="0" lang="cs-CZ" sz="2200" spc="-1" strike="noStrike">
                <a:solidFill>
                  <a:srgbClr val="292934"/>
                </a:solidFill>
                <a:latin typeface="Arial"/>
              </a:rPr>
              <a:t> (spolufinancována) </a:t>
            </a:r>
            <a:r>
              <a:rPr b="1" lang="cs-CZ" sz="2200" spc="-1" strike="noStrike">
                <a:solidFill>
                  <a:srgbClr val="292934"/>
                </a:solidFill>
                <a:latin typeface="Arial"/>
              </a:rPr>
              <a:t>z veřejných rozpočtů</a:t>
            </a:r>
            <a:r>
              <a:rPr b="0" lang="cs-CZ" sz="2200" spc="-1" strike="noStrike">
                <a:solidFill>
                  <a:srgbClr val="292934"/>
                </a:solidFill>
                <a:latin typeface="Arial"/>
              </a:rPr>
              <a:t> (státní, krajské, obecní)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34"/>
                </a:solidFill>
                <a:latin typeface="Arial"/>
              </a:rPr>
              <a:t>je řízena veřejnou správou</a:t>
            </a:r>
            <a:r>
              <a:rPr b="0" lang="cs-CZ" sz="2200" spc="-1" strike="noStrike">
                <a:solidFill>
                  <a:srgbClr val="292934"/>
                </a:solidFill>
                <a:latin typeface="Arial"/>
              </a:rPr>
              <a:t> (státní správou a územní samosprávou)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34"/>
                </a:solidFill>
                <a:latin typeface="Arial"/>
              </a:rPr>
              <a:t>podléhá veřejné kontrole</a:t>
            </a:r>
            <a:r>
              <a:rPr b="0" lang="cs-CZ" sz="2200" spc="-1" strike="noStrike">
                <a:solidFill>
                  <a:srgbClr val="292934"/>
                </a:solidFill>
                <a:latin typeface="Arial"/>
              </a:rPr>
              <a:t> (prostřednictvím zvolených zástupců v parlamentu, obecním zastupitelstvu, případně prostřednictvím kontrolních orgánů)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Arial"/>
              </a:rPr>
              <a:t>Závěrečné informac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599840"/>
            <a:ext cx="7283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Arial"/>
              </a:rPr>
              <a:t>Materiál je určen pro bezplatné používání pro potřeby výuky a vzdělávání na všech typech škol a školských zařízeních. Jakékoliv další využití podléhá autorskému zákonu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82224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Arial"/>
              </a:rPr>
              <a:t>Ostatní objekty a text je vlastní originální tvorbou autora nebo jsou součástí softwaru  Microsoft ® Offic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4648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2533c"/>
                </a:solidFill>
                <a:latin typeface="Arial"/>
              </a:rPr>
              <a:t>Veřejný sektor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6840" y="1828440"/>
            <a:ext cx="78598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21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34"/>
                </a:solidFill>
                <a:latin typeface="Arial"/>
              </a:rPr>
              <a:t>Ekonomiky hospodářsky vyspělých států se od     20. století vyvíjejí jako tzv. </a:t>
            </a:r>
            <a:r>
              <a:rPr b="1" i="1" lang="cs-CZ" sz="2600" spc="-1" strike="noStrike">
                <a:solidFill>
                  <a:srgbClr val="292934"/>
                </a:solidFill>
                <a:latin typeface="Arial"/>
              </a:rPr>
              <a:t>smíšené</a:t>
            </a:r>
            <a:r>
              <a:rPr b="1" lang="cs-CZ" sz="26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1" i="1" lang="cs-CZ" sz="2600" spc="-1" strike="noStrike">
                <a:solidFill>
                  <a:srgbClr val="292934"/>
                </a:solidFill>
                <a:latin typeface="Arial"/>
              </a:rPr>
              <a:t>ekonomiky</a:t>
            </a:r>
            <a:r>
              <a:rPr b="0" lang="cs-CZ" sz="2600" spc="-1" strike="noStrike">
                <a:solidFill>
                  <a:srgbClr val="292934"/>
                </a:solidFill>
                <a:latin typeface="Arial"/>
              </a:rPr>
              <a:t>. Tímto termínem označujeme ekonomiku, kde vedle sebe stojí soukromý (privátní) sektor a sektor veřejný a kde vláda navíc ovlivňuje chování soukromého sektoru, zejména prostřednictvím daní, dotací a regulačních opatření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"/>
          <p:cNvPicPr/>
          <p:nvPr/>
        </p:nvPicPr>
        <p:blipFill>
          <a:blip r:embed="rId1"/>
          <a:srcRect l="11864" t="23740" r="12861" b="34077"/>
          <a:stretch/>
        </p:blipFill>
        <p:spPr>
          <a:xfrm>
            <a:off x="539640" y="1268280"/>
            <a:ext cx="8137800" cy="3427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C:\Users\uzivatel\AppData\Local\Microsoft\Windows\Temporary Internet Files\Content.IE5\EUZ7C3HW\MP900407205[1].jpg"/>
          <p:cNvPicPr/>
          <p:nvPr/>
        </p:nvPicPr>
        <p:blipFill>
          <a:blip r:embed="rId2"/>
          <a:srcRect l="0" t="10654" r="0" b="0"/>
          <a:stretch/>
        </p:blipFill>
        <p:spPr>
          <a:xfrm>
            <a:off x="755640" y="4421160"/>
            <a:ext cx="3240000" cy="23241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C:\Users\uzivatel\AppData\Local\Microsoft\Windows\Temporary Internet Files\Content.IE5\YVLV21P1\MP900439403[1].jpg"/>
          <p:cNvPicPr/>
          <p:nvPr/>
        </p:nvPicPr>
        <p:blipFill>
          <a:blip r:embed="rId3"/>
          <a:srcRect l="0" t="1689" r="6736" b="-1673"/>
          <a:stretch/>
        </p:blipFill>
        <p:spPr>
          <a:xfrm>
            <a:off x="4910040" y="4421160"/>
            <a:ext cx="3245040" cy="2324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684000" y="981000"/>
            <a:ext cx="8002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2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34"/>
                </a:solidFill>
                <a:latin typeface="Arial"/>
              </a:rPr>
              <a:t>Stát ve smíšené ekonomice přijímá některá ekonomická rozhodnutí, a snaží se tak odstraňovat některé nedostatky tržního systému. 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6480" indent="2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34"/>
                </a:solidFill>
                <a:latin typeface="Arial"/>
              </a:rPr>
              <a:t>Tyto zásahy jsou zdůvodňovány</a:t>
            </a:r>
            <a:r>
              <a:rPr b="0" lang="cs-CZ" sz="2600" spc="-1" strike="noStrike">
                <a:solidFill>
                  <a:srgbClr val="292934"/>
                </a:solidFill>
                <a:latin typeface="Arial Unicode MS"/>
              </a:rPr>
              <a:t> </a:t>
            </a:r>
            <a:r>
              <a:rPr b="1" i="1" lang="cs-CZ" sz="2600" spc="-1" strike="noStrike">
                <a:solidFill>
                  <a:srgbClr val="292934"/>
                </a:solidFill>
                <a:latin typeface="Arial"/>
              </a:rPr>
              <a:t>selháním trhu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6480" indent="2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6480" indent="2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34"/>
                </a:solidFill>
                <a:latin typeface="Arial"/>
              </a:rPr>
              <a:t>Názory na míru zásahů státu do ekonomiky se liší. 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6480" indent="2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34"/>
                </a:solidFill>
                <a:latin typeface="Arial"/>
              </a:rPr>
              <a:t>O cílech, druzích a síle státních zásahů, stejně jako o nástrojích, které stát používá, se v demokratické společnosti rozhoduje </a:t>
            </a:r>
            <a:r>
              <a:rPr b="1" i="1" lang="cs-CZ" sz="2600" spc="-1" strike="noStrike">
                <a:solidFill>
                  <a:srgbClr val="292934"/>
                </a:solidFill>
                <a:latin typeface="Arial"/>
              </a:rPr>
              <a:t>veřejnou volbou</a:t>
            </a:r>
            <a:r>
              <a:rPr b="0" lang="cs-CZ" sz="2600" spc="-1" strike="noStrike">
                <a:solidFill>
                  <a:srgbClr val="292934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3" name="Picture 4" descr="C:\Users\uzivatel\AppData\Local\Microsoft\Windows\Temporary Internet Files\Content.IE5\E93304AY\MC900301394[1].wmf"/>
          <p:cNvPicPr/>
          <p:nvPr/>
        </p:nvPicPr>
        <p:blipFill>
          <a:blip r:embed="rId1"/>
          <a:stretch/>
        </p:blipFill>
        <p:spPr>
          <a:xfrm>
            <a:off x="6372360" y="4614840"/>
            <a:ext cx="2455560" cy="2055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8686800" y="3276720"/>
            <a:ext cx="76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5" name="Content Placeholder 4"/>
          <p:cNvSpPr/>
          <p:nvPr/>
        </p:nvSpPr>
        <p:spPr>
          <a:xfrm>
            <a:off x="684360" y="981000"/>
            <a:ext cx="800244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21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34"/>
                </a:solidFill>
                <a:latin typeface="Arial"/>
              </a:rPr>
              <a:t>Příčiny </a:t>
            </a:r>
            <a:r>
              <a:rPr b="1" i="1" lang="cs-CZ" sz="2600" spc="-1" strike="noStrike">
                <a:solidFill>
                  <a:srgbClr val="292934"/>
                </a:solidFill>
                <a:latin typeface="Arial"/>
              </a:rPr>
              <a:t>tržního selhání: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6480" indent="21960">
              <a:lnSpc>
                <a:spcPct val="150000"/>
              </a:lnSpc>
              <a:buClr>
                <a:srgbClr val="292934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292934"/>
                </a:solidFill>
                <a:latin typeface="Arial"/>
              </a:rPr>
              <a:t>nedokonalá konkurence, vznik monopolu 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6480" indent="21960">
              <a:lnSpc>
                <a:spcPct val="150000"/>
              </a:lnSpc>
              <a:buClr>
                <a:srgbClr val="292934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292934"/>
                </a:solidFill>
                <a:latin typeface="Arial"/>
              </a:rPr>
              <a:t>vznik negativních externalit 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6480" indent="21960">
              <a:lnSpc>
                <a:spcPct val="150000"/>
              </a:lnSpc>
              <a:buClr>
                <a:srgbClr val="292934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292934"/>
                </a:solidFill>
                <a:latin typeface="Arial"/>
              </a:rPr>
              <a:t>existence veřejných statků 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6480" indent="21960">
              <a:lnSpc>
                <a:spcPct val="150000"/>
              </a:lnSpc>
              <a:buClr>
                <a:srgbClr val="292934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292934"/>
                </a:solidFill>
                <a:latin typeface="Arial"/>
              </a:rPr>
              <a:t>potřeba zmírnit nerovnosti 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6480" indent="2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34"/>
                </a:solidFill>
                <a:latin typeface="Arial"/>
              </a:rPr>
              <a:t>   </a:t>
            </a:r>
            <a:r>
              <a:rPr b="0" lang="cs-CZ" sz="2600" spc="-1" strike="noStrike">
                <a:solidFill>
                  <a:srgbClr val="292934"/>
                </a:solidFill>
                <a:latin typeface="Arial"/>
              </a:rPr>
              <a:t>mezi subjekty 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6480" indent="21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6" name="Picture 10" descr="C:\Users\uzivatel\AppData\Local\Microsoft\Windows\Temporary Internet Files\Content.IE5\I63F7OTC\MP900427740[1].jpg"/>
          <p:cNvPicPr/>
          <p:nvPr/>
        </p:nvPicPr>
        <p:blipFill>
          <a:blip r:embed="rId1"/>
          <a:stretch/>
        </p:blipFill>
        <p:spPr>
          <a:xfrm>
            <a:off x="5867280" y="2424240"/>
            <a:ext cx="2671920" cy="4005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3"/>
          <p:cNvSpPr/>
          <p:nvPr/>
        </p:nvSpPr>
        <p:spPr>
          <a:xfrm>
            <a:off x="8686800" y="3276720"/>
            <a:ext cx="76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8" name="Content Placeholder 4"/>
          <p:cNvSpPr/>
          <p:nvPr/>
        </p:nvSpPr>
        <p:spPr>
          <a:xfrm>
            <a:off x="684360" y="981000"/>
            <a:ext cx="80024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21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292934"/>
                </a:solidFill>
                <a:latin typeface="Arial"/>
              </a:rPr>
              <a:t>Nedokonalá konkurence, vznik monopolu: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6480" indent="21960">
              <a:lnSpc>
                <a:spcPct val="150000"/>
              </a:lnSpc>
              <a:buClr>
                <a:srgbClr val="292934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292934"/>
                </a:solidFill>
                <a:latin typeface="Arial"/>
              </a:rPr>
              <a:t>situace, kdy na trhu existuje jeden nebo několik málo výrobců (prodejců)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6480" indent="21960">
              <a:lnSpc>
                <a:spcPct val="150000"/>
              </a:lnSpc>
              <a:buClr>
                <a:srgbClr val="292934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292934"/>
                </a:solidFill>
                <a:latin typeface="Arial"/>
              </a:rPr>
              <a:t>v takové situaci může docházet ke zneužití dominantního postavení firmy na trhu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6480" indent="21960">
              <a:lnSpc>
                <a:spcPct val="150000"/>
              </a:lnSpc>
              <a:buClr>
                <a:srgbClr val="292934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292934"/>
                </a:solidFill>
                <a:latin typeface="Arial"/>
              </a:rPr>
              <a:t>stát proto vydává zákony zakazující takové chování firem a zřizuje instituce dohlížejících na jejich dodržování, např. Úřad na ochranu hospodářské soutěže (antimonopolní úřad)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6480" indent="21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Content Placeholder 4"/>
          <p:cNvSpPr/>
          <p:nvPr/>
        </p:nvSpPr>
        <p:spPr>
          <a:xfrm>
            <a:off x="684360" y="981000"/>
            <a:ext cx="800244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21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0" name="Content Placeholder 4"/>
          <p:cNvSpPr/>
          <p:nvPr/>
        </p:nvSpPr>
        <p:spPr>
          <a:xfrm>
            <a:off x="755640" y="907920"/>
            <a:ext cx="77040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219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34"/>
                </a:solidFill>
                <a:latin typeface="Arial"/>
              </a:rPr>
              <a:t>Externality </a:t>
            </a:r>
            <a:r>
              <a:rPr b="0" lang="cs-CZ" sz="2400" spc="-1" strike="noStrike">
                <a:solidFill>
                  <a:srgbClr val="292934"/>
                </a:solidFill>
                <a:latin typeface="Arial"/>
              </a:rPr>
              <a:t>= jedná se o</a:t>
            </a:r>
            <a:r>
              <a:rPr b="1" lang="cs-CZ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34"/>
                </a:solidFill>
                <a:latin typeface="Arial"/>
              </a:rPr>
              <a:t>vedlejší, nezamýšlené efekty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6480" indent="219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6480" indent="219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Arial"/>
              </a:rPr>
              <a:t>V důsledku aktivit soukromých výrobců i soukromých spotřebitelů dochází běžně k </a:t>
            </a:r>
            <a:r>
              <a:rPr b="1" i="1" lang="cs-CZ" sz="2400" spc="-1" strike="noStrike">
                <a:solidFill>
                  <a:srgbClr val="292934"/>
                </a:solidFill>
                <a:latin typeface="Arial"/>
              </a:rPr>
              <a:t>přenášení užitku</a:t>
            </a:r>
            <a:r>
              <a:rPr b="0" lang="cs-CZ" sz="2400" spc="-1" strike="noStrike">
                <a:solidFill>
                  <a:srgbClr val="292934"/>
                </a:solidFill>
                <a:latin typeface="Arial"/>
              </a:rPr>
              <a:t> (tzv. pozitivní externalita) </a:t>
            </a:r>
            <a:r>
              <a:rPr b="1" i="1" lang="cs-CZ" sz="2400" spc="-1" strike="noStrike">
                <a:solidFill>
                  <a:srgbClr val="292934"/>
                </a:solidFill>
                <a:latin typeface="Arial"/>
              </a:rPr>
              <a:t>nebo škody</a:t>
            </a:r>
            <a:r>
              <a:rPr b="0" lang="cs-CZ" sz="2400" spc="-1" strike="noStrike">
                <a:solidFill>
                  <a:srgbClr val="292934"/>
                </a:solidFill>
                <a:latin typeface="Arial"/>
              </a:rPr>
              <a:t> (tzv. negativní externalita) na jiný subjekt mimo trh. Za přenášení užitku přitom příjemce neplatí a za způsobenou škodu nedostává náhradu. Problematické jsou zejména negativní externality s dopady na životní prostředí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Content Placeholder 4"/>
          <p:cNvSpPr/>
          <p:nvPr/>
        </p:nvSpPr>
        <p:spPr>
          <a:xfrm>
            <a:off x="755640" y="1339920"/>
            <a:ext cx="547200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219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34"/>
                </a:solidFill>
                <a:latin typeface="Arial"/>
              </a:rPr>
              <a:t>Příklady negativních externalit: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6480" indent="21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292934"/>
                </a:solidFill>
                <a:latin typeface="Arial"/>
              </a:rPr>
              <a:t>Elektrárna vyrábí elektřinu spalováním uhlí. Spalování uhlí produkuje emise, které elektrárna vypouští do ovzduší a které poškozují blízké lesy. Část lesů hyne a jejich majitelům tak vznikají škody. Náklady na obnovu lesa totiž neplatí elektrárna, ale majitelé lesů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2" name="Picture 4" descr="C:\Users\uzivatel\AppData\Local\Microsoft\Windows\Temporary Internet Files\Content.IE5\I63F7OTC\MP900180771[1].jpg"/>
          <p:cNvPicPr/>
          <p:nvPr/>
        </p:nvPicPr>
        <p:blipFill>
          <a:blip r:embed="rId1"/>
          <a:stretch/>
        </p:blipFill>
        <p:spPr>
          <a:xfrm>
            <a:off x="6443640" y="2125800"/>
            <a:ext cx="2311560" cy="365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Content Placeholder 4"/>
          <p:cNvSpPr/>
          <p:nvPr/>
        </p:nvSpPr>
        <p:spPr>
          <a:xfrm>
            <a:off x="755640" y="1339920"/>
            <a:ext cx="770400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219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34"/>
                </a:solidFill>
                <a:latin typeface="Arial"/>
              </a:rPr>
              <a:t>Příklady negativních externalit: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6480" indent="21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292934"/>
                </a:solidFill>
                <a:latin typeface="Arial"/>
              </a:rPr>
              <a:t>Mezinárodní společnost postavila nové letiště blízko dosud klidného města. Někteří obyvatelé města se budou chtít kvůli hluku odstěhovat, ale zjistí, že tržní cena jejich domu a pozemku klesla, protože díky hluku se stala méně žádanou. To jim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6480" indent="21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292934"/>
                </a:solidFill>
                <a:latin typeface="Arial"/>
              </a:rPr>
              <a:t>ovšem zmíněná společnost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6480" indent="21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292934"/>
                </a:solidFill>
                <a:latin typeface="Arial"/>
              </a:rPr>
              <a:t>samozřejmě nezaplatí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4" name="Picture 4" descr="C:\Users\uzivatel\AppData\Local\Microsoft\Windows\Temporary Internet Files\Content.IE5\YVLV21P1\MP900442499[1].jpg"/>
          <p:cNvPicPr/>
          <p:nvPr/>
        </p:nvPicPr>
        <p:blipFill>
          <a:blip r:embed="rId1"/>
          <a:stretch/>
        </p:blipFill>
        <p:spPr>
          <a:xfrm>
            <a:off x="5508720" y="4322880"/>
            <a:ext cx="3240000" cy="2174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2-09-24T06:36:18Z</dcterms:modified>
  <cp:revision>1</cp:revision>
  <dc:subject/>
  <dc:title/>
</cp:coreProperties>
</file>