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FF22-E0CF-4969-A5DC-63BEE1C1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4515-C1A1-438E-BE33-70C1A8D3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2B3-C7E1-46FD-AB74-23D49342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CBB4-649A-4695-853A-6F700BF3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196B-385F-4920-8F88-49C9E9A9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6533-ABF3-441F-A9B3-08B53697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2E68-511B-4332-A5A4-FDFA53FF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4BD-32EF-4E15-876D-7FC6C039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262A-FD65-4F9B-AEC1-E1EB2F95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8DD-237D-4BDE-ADBD-A97147B2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C516-1CF0-4C1B-AF94-970C91FA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1F2D-DA25-4A77-A8E2-A1850D48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E355-55F8-4145-9EF0-EA8D68480F4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 rot="20293200">
            <a:off x="974880" y="1287000"/>
            <a:ext cx="442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000000"/>
                </a:solidFill>
                <a:latin typeface="Arial"/>
              </a:rPr>
              <a:t>THERE 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 rot="1584600">
            <a:off x="3654000" y="3886200"/>
            <a:ext cx="5870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000000"/>
                </a:solidFill>
                <a:latin typeface="Arial"/>
              </a:rPr>
              <a:t>THERE 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here is / 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to vazba vyjadřuje, že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ěkd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ěc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ěkde existuje, 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ěta touto vazbou začíná, vazba se nepřeklád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vazbě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here is/ there ar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ásleduje podstatné jméno=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o někde j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a pak je informace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de něco 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50920" y="912960"/>
            <a:ext cx="302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here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618000" y="89532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135840" y="907920"/>
            <a:ext cx="1003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82760" y="4067280"/>
            <a:ext cx="8049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:There is a table at the wind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re are two bedrooms in his fl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TÁZ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voří se tak, že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ačínám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ětu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lovese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there a balcony on the second flo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there flowers on the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p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por tvoříme přidáním záporky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ov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sn´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garden at this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ren´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two bathrooms in this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azba there is/ there 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skytuje se ve všech prostých čase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tomný: There is a boy at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nulý: There was a boy at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udoucí:There will be a boy at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azba“going to“:There is going to be a b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působová slovesa: There can be a b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ečné inform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teriál je určen pro bezplatné používání pro potřeby výuky a vzdělávání na všech typech škol a školských zařízeních. Jakékoliv další využití podléhá autorskému záko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e:BELÁN, J.Odmaturuj z anglického jazy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DAKTIS 2004,ISBN 80-86285-85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statní objekty a text je vlastní originální tvorbou autora nebo jsou součástí softwaru Microsoft® Off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3:16:09Z</dcterms:created>
  <dc:creator> </dc:creator>
  <dc:description/>
  <dc:language>en-US</dc:language>
  <cp:lastModifiedBy> </cp:lastModifiedBy>
  <dcterms:modified xsi:type="dcterms:W3CDTF">2012-11-12T12:57:00Z</dcterms:modified>
  <cp:revision>5</cp:revision>
  <dc:subject/>
  <dc:title>Snímek 1</dc:title>
</cp:coreProperties>
</file>