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69C-623D-4AAD-A5A7-76B666E2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9C8-01CD-4E91-825C-D73601FC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06AC-FB7C-4720-A169-EC226711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E07-089F-4CEC-80A1-068C0EBF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B76-73A6-4EC9-AA41-B7B4500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45E-749F-4EC7-B2B4-2FD91C3F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2F9-10EC-4C44-90C2-1606DDC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A41-6A21-4537-816F-09C5BB51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4B9-6EE1-417B-804F-4B50D268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A31-C86C-4913-8CA3-A90E526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914-ED08-4155-B3AF-872A044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482-7E03-4D4D-9F74-09D56BB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C0BC-1F09-4917-96B0-F7E85FF1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7/Melbourne_yarra_twilight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commons.wikimedia.org/wiki/File:Melbourne_yarra_twilight.jpg" TargetMode="External"/><Relationship Id="rId4" Type="http://schemas.openxmlformats.org/officeDocument/2006/relationships/hyperlink" Target="http://commons.wikimedia.org/wiki/File:Melbourne_yarra_twilight.jpg" TargetMode="External"/><Relationship Id="rId5" Type="http://schemas.openxmlformats.org/officeDocument/2006/relationships/hyperlink" Target="http://commons.wikimedia.org/wiki/File:Melbourne_yarra_twilight.jpg" TargetMode="External"/><Relationship Id="rId6" Type="http://schemas.openxmlformats.org/officeDocument/2006/relationships/hyperlink" Target="http://commons.wikimedia.org/wiki/File:Melbourne_yarra_twilight.jpg" TargetMode="External"/><Relationship Id="rId7" Type="http://schemas.openxmlformats.org/officeDocument/2006/relationships/hyperlink" Target="http://commons.wikimedia.org/wiki/File:Melbourne_yarra_twilight.jpg" TargetMode="External"/><Relationship Id="rId8" Type="http://schemas.openxmlformats.org/officeDocument/2006/relationships/hyperlink" Target="http://commons.wikimedia.org/wiki/File:Melbourne_yarra_twilight.jpg" TargetMode="External"/><Relationship Id="rId9" Type="http://schemas.openxmlformats.org/officeDocument/2006/relationships/hyperlink" Target="http://commons.wikimedia.org/wiki/File:Melbourne_yarra_twilight.jpg" TargetMode="External"/><Relationship Id="rId10" Type="http://schemas.openxmlformats.org/officeDocument/2006/relationships/hyperlink" Target="http://commons.wikimedia.org/wiki/File:Melbourne_yarra_twilight.jpg" TargetMode="External"/><Relationship Id="rId11" Type="http://schemas.openxmlformats.org/officeDocument/2006/relationships/hyperlink" Target="http://commons.wikimedia.org/wiki/File:Melbourne_yarra_twilight.jpg" TargetMode="External"/><Relationship Id="rId12" Type="http://schemas.openxmlformats.org/officeDocument/2006/relationships/hyperlink" Target="http://commons.wikimedia.org/wiki/File:Melbourne_yarra_twilight.jpg" TargetMode="External"/><Relationship Id="rId13" Type="http://schemas.openxmlformats.org/officeDocument/2006/relationships/hyperlink" Target="http://commons.wikimedia.org/wiki/File:Melbourne_yarra_twilight.jpg" TargetMode="External"/><Relationship Id="rId14" Type="http://schemas.openxmlformats.org/officeDocument/2006/relationships/hyperlink" Target="http://commons.wikimedia.org/wiki/File:Melbourne_yarra_twilight.jpg" TargetMode="External"/><Relationship Id="rId15" Type="http://schemas.openxmlformats.org/officeDocument/2006/relationships/hyperlink" Target="http://commons.wikimedia.org/wiki/File:Melbourne_yarra_twilight.jpg" TargetMode="External"/><Relationship Id="rId16" Type="http://schemas.openxmlformats.org/officeDocument/2006/relationships/hyperlink" Target="http://commons.wikimedia.org/wiki/File:Melbourne_yarra_twilight.jpg" TargetMode="External"/><Relationship Id="rId17" Type="http://schemas.openxmlformats.org/officeDocument/2006/relationships/hyperlink" Target="http://commons.wikimedia.org/wiki/File:Melbourne_yarra_twilight.jpg" TargetMode="External"/><Relationship Id="rId18" Type="http://schemas.openxmlformats.org/officeDocument/2006/relationships/hyperlink" Target="http://commons.wikimedia.org/wiki/File:Melbourne_yarra_twilight.jpg" TargetMode="External"/><Relationship Id="rId19" Type="http://schemas.openxmlformats.org/officeDocument/2006/relationships/hyperlink" Target="http://commons.wikimedia.org/wiki/File:Melbourne_yarra_twilight.jpg" TargetMode="External"/><Relationship Id="rId20" Type="http://schemas.openxmlformats.org/officeDocument/2006/relationships/hyperlink" Target="http://commons.wikimedia.org/wiki/File:Melbourne_yarra_twilight.jpg" TargetMode="External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e/ee/Brisbane_CBDandSB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commons.wikimedia.org/w/index.php?search=Brisbane+CBDandSB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d/Brisbane_City_Hall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commons.wikimedia.org/w/index.php?search=Brisbane+City+Hall.jpg&amp;button=&amp;title=Special%3ASearch" TargetMode="External"/><Relationship Id="rId4" Type="http://schemas.openxmlformats.org/officeDocument/2006/relationships/hyperlink" Target="http://commons.wikimedia.org/w/index.php?search=Brisbane+City+Hall.jpg&amp;button=&amp;title=Special%3ASearch" TargetMode="External"/><Relationship Id="rId5" Type="http://schemas.openxmlformats.org/officeDocument/2006/relationships/hyperlink" Target="http://commons.wikimedia.org/w/index.php?search=Brisbane+City+Hall.jpg&amp;button=&amp;title=Special%3ASearch" TargetMode="External"/><Relationship Id="rId6" Type="http://schemas.openxmlformats.org/officeDocument/2006/relationships/hyperlink" Target="http://commons.wikimedia.org/w/index.php?search=Brisbane+City+Hall.jpg&amp;button=&amp;title=Special%3ASearch" TargetMode="External"/><Relationship Id="rId7" Type="http://schemas.openxmlformats.org/officeDocument/2006/relationships/hyperlink" Target="http://commons.wikimedia.org/w/index.php?search=Brisbane+City+Hall.jpg&amp;button=&amp;title=Special%3ASearch" TargetMode="External"/><Relationship Id="rId8" Type="http://schemas.openxmlformats.org/officeDocument/2006/relationships/hyperlink" Target="http://commons.wikimedia.org/w/index.php?search=Brisbane+City+Hall.jpg&amp;button=&amp;title=Special%3ASearch" TargetMode="External"/><Relationship Id="rId9" Type="http://schemas.openxmlformats.org/officeDocument/2006/relationships/hyperlink" Target="http://commons.wikimedia.org/w/index.php?search=Brisbane+City+Hall.jpg&amp;button=&amp;title=Special%3ASearch" TargetMode="External"/><Relationship Id="rId10" Type="http://schemas.openxmlformats.org/officeDocument/2006/relationships/hyperlink" Target="http://commons.wikimedia.org/w/index.php?search=Brisbane+City+Hall.jpg&amp;button=&amp;title=Special%3ASearch" TargetMode="External"/><Relationship Id="rId11" Type="http://schemas.openxmlformats.org/officeDocument/2006/relationships/hyperlink" Target="http://commons.wikimedia.org/w/index.php?search=Brisbane+City+Hall.jpg&amp;button=&amp;title=Special%3ASearch" TargetMode="External"/><Relationship Id="rId12" Type="http://schemas.openxmlformats.org/officeDocument/2006/relationships/hyperlink" Target="http://commons.wikimedia.org/w/index.php?search=Brisbane+City+Hall.jpg&amp;button=&amp;title=Special%3ASearch" TargetMode="External"/><Relationship Id="rId13" Type="http://schemas.openxmlformats.org/officeDocument/2006/relationships/hyperlink" Target="http://commons.wikimedia.org/w/index.php?search=Brisbane+City+Hall.jpg&amp;button=&amp;title=Special%3ASearch" TargetMode="External"/><Relationship Id="rId14" Type="http://schemas.openxmlformats.org/officeDocument/2006/relationships/hyperlink" Target="http://commons.wikimedia.org/w/index.php?search=Brisbane+City+Hall.jpg&amp;button=&amp;title=Special%3ASearch" TargetMode="External"/><Relationship Id="rId15" Type="http://schemas.openxmlformats.org/officeDocument/2006/relationships/hyperlink" Target="http://commons.wikimedia.org/w/index.php?search=Brisbane+City+Hall.jpg&amp;button=&amp;title=Special%3ASearch" TargetMode="External"/><Relationship Id="rId16" Type="http://schemas.openxmlformats.org/officeDocument/2006/relationships/hyperlink" Target="http://commons.wikimedia.org/w/index.php?search=Brisbane+City+Hall.jpg&amp;button=&amp;title=Special%3ASearch" TargetMode="External"/><Relationship Id="rId17" Type="http://schemas.openxmlformats.org/officeDocument/2006/relationships/hyperlink" Target="http://commons.wikimedia.org/w/index.php?search=Brisbane+City+Hall.jpg&amp;button=&amp;title=Special%3ASearch" TargetMode="External"/><Relationship Id="rId18" Type="http://schemas.openxmlformats.org/officeDocument/2006/relationships/hyperlink" Target="http://commons.wikimedia.org/w/index.php?search=Brisbane+City+Hall.jpg&amp;button=&amp;title=Special%3ASearch" TargetMode="External"/><Relationship Id="rId19" Type="http://schemas.openxmlformats.org/officeDocument/2006/relationships/hyperlink" Target="http://commons.wikimedia.org/w/index.php?search=Brisbane+City+Hall.jpg&amp;button=&amp;title=Special%3ASearch" TargetMode="External"/><Relationship Id="rId20" Type="http://schemas.openxmlformats.org/officeDocument/2006/relationships/hyperlink" Target="http://commons.wikimedia.org/w/index.php?search=Brisbane+City+Hall.jpg&amp;button=&amp;title=Special%3ASearch" TargetMode="External"/><Relationship Id="rId21" Type="http://schemas.openxmlformats.org/officeDocument/2006/relationships/hyperlink" Target="http://commons.wikimedia.org/w/index.php?search=Brisbane+City+Hall.jpg&amp;button=&amp;title=Special%3ASearch" TargetMode="External"/><Relationship Id="rId22" Type="http://schemas.openxmlformats.org/officeDocument/2006/relationships/hyperlink" Target="http://commons.wikimedia.org/w/index.php?search=Brisbane+City+Hall.jpg&amp;button=&amp;title=Special%3ASearch" TargetMode="External"/><Relationship Id="rId23" Type="http://schemas.openxmlformats.org/officeDocument/2006/relationships/hyperlink" Target="http://commons.wikimedia.org/w/index.php?search=Brisbane+City+Hall.jpg&amp;button=&amp;title=Special%3ASearch" TargetMode="External"/><Relationship Id="rId24" Type="http://schemas.openxmlformats.org/officeDocument/2006/relationships/hyperlink" Target="http://commons.wikimedia.org/w/index.php?search=Brisbane+City+Hall.jpg&amp;button=&amp;title=Special%3ASearch" TargetMode="External"/><Relationship Id="rId25" Type="http://schemas.openxmlformats.org/officeDocument/2006/relationships/hyperlink" Target="http://commons.wikimedia.org/w/index.php?search=Brisbane+City+Hall.jpg&amp;button=&amp;title=Special%3ASearch" TargetMode="External"/><Relationship Id="rId2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0/Adelaide_torrensandfestivalcentr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commons.wikimedia.org/w/index.php?search=adelaide+torrensandfestivalcentre.jpg&amp;button=&amp;title=Special%3ASearch" TargetMode="External"/><Relationship Id="rId4" Type="http://schemas.openxmlformats.org/officeDocument/2006/relationships/hyperlink" Target="http://commons.wikimedia.org/w/index.php?search=adelaide+torrensandfestivalcentre.jpg&amp;button=&amp;title=Special%3ASearch" TargetMode="External"/><Relationship Id="rId5" Type="http://schemas.openxmlformats.org/officeDocument/2006/relationships/hyperlink" Target="http://commons.wikimedia.org/w/index.php?search=adelaide+torrensandfestivalcentre.jpg&amp;button=&amp;title=Special%3ASearch" TargetMode="External"/><Relationship Id="rId6" Type="http://schemas.openxmlformats.org/officeDocument/2006/relationships/hyperlink" Target="http://commons.wikimedia.org/w/index.php?search=adelaide+torrensandfestivalcentre.jpg&amp;button=&amp;title=Special%3ASearch" TargetMode="External"/><Relationship Id="rId7" Type="http://schemas.openxmlformats.org/officeDocument/2006/relationships/hyperlink" Target="http://commons.wikimedia.org/w/index.php?search=adelaide+torrensandfestivalcentre.jpg&amp;button=&amp;title=Special%3ASearch" TargetMode="External"/><Relationship Id="rId8" Type="http://schemas.openxmlformats.org/officeDocument/2006/relationships/hyperlink" Target="http://commons.wikimedia.org/w/index.php?search=adelaide+torrensandfestivalcentre.jpg&amp;button=&amp;title=Special%3ASearch" TargetMode="External"/><Relationship Id="rId9" Type="http://schemas.openxmlformats.org/officeDocument/2006/relationships/hyperlink" Target="http://commons.wikimedia.org/w/index.php?search=adelaide+torrensandfestivalcentre.jpg&amp;button=&amp;title=Special%3ASearch" TargetMode="External"/><Relationship Id="rId10" Type="http://schemas.openxmlformats.org/officeDocument/2006/relationships/hyperlink" Target="http://commons.wikimedia.org/w/index.php?search=adelaide+torrensandfestivalcentre.jpg&amp;button=&amp;title=Special%3ASearch" TargetMode="External"/><Relationship Id="rId11" Type="http://schemas.openxmlformats.org/officeDocument/2006/relationships/hyperlink" Target="http://commons.wikimedia.org/w/index.php?search=adelaide+torrensandfestivalcentre.jpg&amp;button=&amp;title=Special%3ASearch" TargetMode="External"/><Relationship Id="rId12" Type="http://schemas.openxmlformats.org/officeDocument/2006/relationships/hyperlink" Target="http://commons.wikimedia.org/w/index.php?search=adelaide+torrensandfestivalcentre.jpg&amp;button=&amp;title=Special%3ASearch" TargetMode="External"/><Relationship Id="rId13" Type="http://schemas.openxmlformats.org/officeDocument/2006/relationships/hyperlink" Target="http://commons.wikimedia.org/w/index.php?search=adelaide+torrensandfestivalcentre.jpg&amp;button=&amp;title=Special%3ASearch" TargetMode="External"/><Relationship Id="rId14" Type="http://schemas.openxmlformats.org/officeDocument/2006/relationships/hyperlink" Target="http://commons.wikimedia.org/w/index.php?search=adelaide+torrensandfestivalcentre.jpg&amp;button=&amp;title=Special%3ASearch" TargetMode="External"/><Relationship Id="rId15" Type="http://schemas.openxmlformats.org/officeDocument/2006/relationships/hyperlink" Target="http://commons.wikimedia.org/w/index.php?search=adelaide+torrensandfestivalcentre.jpg&amp;button=&amp;title=Special%3ASearch" TargetMode="External"/><Relationship Id="rId16" Type="http://schemas.openxmlformats.org/officeDocument/2006/relationships/hyperlink" Target="http://commons.wikimedia.org/w/index.php?search=adelaide+torrensandfestivalcentre.jpg&amp;button=&amp;title=Special%3ASearch" TargetMode="External"/><Relationship Id="rId17" Type="http://schemas.openxmlformats.org/officeDocument/2006/relationships/hyperlink" Target="http://commons.wikimedia.org/w/index.php?search=adelaide+torrensandfestivalcentre.jpg&amp;button=&amp;title=Special%3ASearch" TargetMode="External"/><Relationship Id="rId18" Type="http://schemas.openxmlformats.org/officeDocument/2006/relationships/hyperlink" Target="http://commons.wikimedia.org/w/index.php?search=adelaide+torrensandfestivalcentre.jpg&amp;button=&amp;title=Special%3ASearch" TargetMode="External"/><Relationship Id="rId19" Type="http://schemas.openxmlformats.org/officeDocument/2006/relationships/hyperlink" Target="http://commons.wikimedia.org/w/index.php?search=adelaide+torrensandfestivalcentre.jpg&amp;button=&amp;title=Special%3ASearch" TargetMode="External"/><Relationship Id="rId20" Type="http://schemas.openxmlformats.org/officeDocument/2006/relationships/hyperlink" Target="http://commons.wikimedia.org/w/index.php?search=adelaide+torrensandfestivalcentre.jpg&amp;button=&amp;title=Special%3ASearch" TargetMode="External"/><Relationship Id="rId21" Type="http://schemas.openxmlformats.org/officeDocument/2006/relationships/hyperlink" Target="http://commons.wikimedia.org/w/index.php?search=adelaide+torrensandfestivalcentre.jpg&amp;button=&amp;title=Special%3ASearch" TargetMode="External"/><Relationship Id="rId22" Type="http://schemas.openxmlformats.org/officeDocument/2006/relationships/hyperlink" Target="http://commons.wikimedia.org/w/index.php?search=adelaide+torrensandfestivalcentre.jpg&amp;button=&amp;title=Special%3ASearch" TargetMode="External"/><Relationship Id="rId23" Type="http://schemas.openxmlformats.org/officeDocument/2006/relationships/hyperlink" Target="http://commons.wikimedia.org/w/index.php?search=adelaide+torrensandfestivalcentre.jpg&amp;button=&amp;title=Special%3ASearch" TargetMode="External"/><Relationship Id="rId24" Type="http://schemas.openxmlformats.org/officeDocument/2006/relationships/hyperlink" Target="http://commons.wikimedia.org/w/index.php?search=adelaide+torrensandfestivalcentre.jpg&amp;button=&amp;title=Special%3ASearch" TargetMode="External"/><Relationship Id="rId25" Type="http://schemas.openxmlformats.org/officeDocument/2006/relationships/hyperlink" Target="http://commons.wikimedia.org/w/index.php?search=adelaide+torrensandfestivalcentre.jpg&amp;button=&amp;title=Special%3ASearch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d/Hobart_Marina_MTWellington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commons.wikimedia.org/w/index.php?search=Hobart+Marina+MTWellington.jpg&amp;button=&amp;title=Special%3ASearch" TargetMode="External"/><Relationship Id="rId4" Type="http://schemas.openxmlformats.org/officeDocument/2006/relationships/hyperlink" Target="http://commons.wikimedia.org/w/index.php?search=Hobart+Marina+MTWellington.jpg&amp;button=&amp;title=Special%3ASearch" TargetMode="External"/><Relationship Id="rId5" Type="http://schemas.openxmlformats.org/officeDocument/2006/relationships/hyperlink" Target="http://commons.wikimedia.org/w/index.php?search=Hobart+Marina+MTWellington.jpg&amp;button=&amp;title=Special%3ASearch" TargetMode="External"/><Relationship Id="rId6" Type="http://schemas.openxmlformats.org/officeDocument/2006/relationships/hyperlink" Target="http://commons.wikimedia.org/w/index.php?search=Hobart+Marina+MTWellington.jpg&amp;button=&amp;title=Special%3ASearch" TargetMode="External"/><Relationship Id="rId7" Type="http://schemas.openxmlformats.org/officeDocument/2006/relationships/hyperlink" Target="http://commons.wikimedia.org/w/index.php?search=Hobart+Marina+MTWellington.jpg&amp;button=&amp;title=Special%3ASearch" TargetMode="External"/><Relationship Id="rId8" Type="http://schemas.openxmlformats.org/officeDocument/2006/relationships/hyperlink" Target="http://commons.wikimedia.org/w/index.php?search=Hobart+Marina+MTWellington.jpg&amp;button=&amp;title=Special%3ASearch" TargetMode="External"/><Relationship Id="rId9" Type="http://schemas.openxmlformats.org/officeDocument/2006/relationships/hyperlink" Target="http://commons.wikimedia.org/w/index.php?search=Hobart+Marina+MTWellington.jpg&amp;button=&amp;title=Special%3ASearch" TargetMode="External"/><Relationship Id="rId10" Type="http://schemas.openxmlformats.org/officeDocument/2006/relationships/hyperlink" Target="http://commons.wikimedia.org/w/index.php?search=Hobart+Marina+MTWellington.jpg&amp;button=&amp;title=Special%3ASearch" TargetMode="External"/><Relationship Id="rId11" Type="http://schemas.openxmlformats.org/officeDocument/2006/relationships/hyperlink" Target="http://commons.wikimedia.org/w/index.php?search=Hobart+Marina+MTWellington.jpg&amp;button=&amp;title=Special%3ASearch" TargetMode="External"/><Relationship Id="rId12" Type="http://schemas.openxmlformats.org/officeDocument/2006/relationships/hyperlink" Target="http://commons.wikimedia.org/w/index.php?search=Hobart+Marina+MTWellington.jpg&amp;button=&amp;title=Special%3ASearch" TargetMode="External"/><Relationship Id="rId13" Type="http://schemas.openxmlformats.org/officeDocument/2006/relationships/hyperlink" Target="http://commons.wikimedia.org/w/index.php?search=Hobart+Marina+MTWellington.jpg&amp;button=&amp;title=Special%3ASearch" TargetMode="External"/><Relationship Id="rId14" Type="http://schemas.openxmlformats.org/officeDocument/2006/relationships/hyperlink" Target="http://commons.wikimedia.org/w/index.php?search=Hobart+Marina+MTWellington.jpg&amp;button=&amp;title=Special%3ASearch" TargetMode="External"/><Relationship Id="rId15" Type="http://schemas.openxmlformats.org/officeDocument/2006/relationships/hyperlink" Target="http://commons.wikimedia.org/w/index.php?search=Hobart+Marina+MTWellington.jpg&amp;button=&amp;title=Special%3ASearch" TargetMode="External"/><Relationship Id="rId16" Type="http://schemas.openxmlformats.org/officeDocument/2006/relationships/hyperlink" Target="http://commons.wikimedia.org/w/index.php?search=Hobart+Marina+MTWellington.jpg&amp;button=&amp;title=Special%3ASearch" TargetMode="External"/><Relationship Id="rId17" Type="http://schemas.openxmlformats.org/officeDocument/2006/relationships/hyperlink" Target="http://commons.wikimedia.org/w/index.php?search=Hobart+Marina+MTWellington.jpg&amp;button=&amp;title=Special%3ASearch" TargetMode="External"/><Relationship Id="rId18" Type="http://schemas.openxmlformats.org/officeDocument/2006/relationships/hyperlink" Target="http://commons.wikimedia.org/w/index.php?search=Hobart+Marina+MTWellington.jpg&amp;button=&amp;title=Special%3ASearch" TargetMode="External"/><Relationship Id="rId19" Type="http://schemas.openxmlformats.org/officeDocument/2006/relationships/hyperlink" Target="http://commons.wikimedia.org/w/index.php?search=Hobart+Marina+MTWellington.jpg&amp;button=&amp;title=Special%3ASearch" TargetMode="External"/><Relationship Id="rId20" Type="http://schemas.openxmlformats.org/officeDocument/2006/relationships/hyperlink" Target="http://commons.wikimedia.org/w/index.php?search=Hobart+Marina+MTWellington.jpg&amp;button=&amp;title=Special%3ASearch" TargetMode="External"/><Relationship Id="rId21" Type="http://schemas.openxmlformats.org/officeDocument/2006/relationships/hyperlink" Target="http://commons.wikimedia.org/w/index.php?search=Hobart+Marina+MTWellington.jpg&amp;button=&amp;title=Special%3ASearch" TargetMode="External"/><Relationship Id="rId22" Type="http://schemas.openxmlformats.org/officeDocument/2006/relationships/hyperlink" Target="http://commons.wikimedia.org/w/index.php?search=Hobart+Marina+MTWellington.jpg&amp;button=&amp;title=Special%3ASearch" TargetMode="External"/><Relationship Id="rId23" Type="http://schemas.openxmlformats.org/officeDocument/2006/relationships/hyperlink" Target="http://commons.wikimedia.org/w/index.php?search=Hobart+Marina+MTWellington.jpg&amp;button=&amp;title=Special%3ASearch" TargetMode="External"/><Relationship Id="rId24" Type="http://schemas.openxmlformats.org/officeDocument/2006/relationships/hyperlink" Target="http://commons.wikimedia.org/w/index.php?search=Hobart+Marina+MTWellington.jpg&amp;button=&amp;title=Special%3ASearch" TargetMode="External"/><Relationship Id="rId25" Type="http://schemas.openxmlformats.org/officeDocument/2006/relationships/hyperlink" Target="http://commons.wikimedia.org/w/index.php?search=Hobart+Marina+MTWellington.jpg&amp;button=&amp;title=Special%3ASearch" TargetMode="External"/><Relationship Id="rId2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e/Darwin_6299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commons.wikimedia.org/w/index.php?search=Darwin+6299.jpg+&amp;button=&amp;title=Special%3ASearch" TargetMode="External"/><Relationship Id="rId4" Type="http://schemas.openxmlformats.org/officeDocument/2006/relationships/hyperlink" Target="http://commons.wikimedia.org/w/index.php?search=Darwin+6299.jpg+&amp;button=&amp;title=Special%3ASearch" TargetMode="External"/><Relationship Id="rId5" Type="http://schemas.openxmlformats.org/officeDocument/2006/relationships/hyperlink" Target="http://commons.wikimedia.org/w/index.php?search=Darwin+6299.jpg+&amp;button=&amp;title=Special%3ASearch" TargetMode="External"/><Relationship Id="rId6" Type="http://schemas.openxmlformats.org/officeDocument/2006/relationships/hyperlink" Target="http://commons.wikimedia.org/w/index.php?search=Darwin+6299.jpg+&amp;button=&amp;title=Special%3ASearch" TargetMode="External"/><Relationship Id="rId7" Type="http://schemas.openxmlformats.org/officeDocument/2006/relationships/hyperlink" Target="http://commons.wikimedia.org/w/index.php?search=Darwin+6299.jpg+&amp;button=&amp;title=Special%3ASearch" TargetMode="External"/><Relationship Id="rId8" Type="http://schemas.openxmlformats.org/officeDocument/2006/relationships/hyperlink" Target="http://commons.wikimedia.org/w/index.php?search=Darwin+6299.jpg+&amp;button=&amp;title=Special%3ASearch" TargetMode="External"/><Relationship Id="rId9" Type="http://schemas.openxmlformats.org/officeDocument/2006/relationships/hyperlink" Target="http://commons.wikimedia.org/w/index.php?search=Darwin+6299.jpg+&amp;button=&amp;title=Special%3ASearch" TargetMode="External"/><Relationship Id="rId10" Type="http://schemas.openxmlformats.org/officeDocument/2006/relationships/hyperlink" Target="http://commons.wikimedia.org/w/index.php?search=Darwin+6299.jpg+&amp;button=&amp;title=Special%3ASearch" TargetMode="External"/><Relationship Id="rId11" Type="http://schemas.openxmlformats.org/officeDocument/2006/relationships/hyperlink" Target="http://commons.wikimedia.org/w/index.php?search=Darwin+6299.jpg+&amp;button=&amp;title=Special%3ASearch" TargetMode="External"/><Relationship Id="rId12" Type="http://schemas.openxmlformats.org/officeDocument/2006/relationships/hyperlink" Target="http://commons.wikimedia.org/w/index.php?search=Darwin+6299.jpg+&amp;button=&amp;title=Special%3ASearch" TargetMode="External"/><Relationship Id="rId13" Type="http://schemas.openxmlformats.org/officeDocument/2006/relationships/hyperlink" Target="http://commons.wikimedia.org/w/index.php?search=Darwin+6299.jpg+&amp;button=&amp;title=Special%3ASearch" TargetMode="External"/><Relationship Id="rId14" Type="http://schemas.openxmlformats.org/officeDocument/2006/relationships/hyperlink" Target="http://commons.wikimedia.org/w/index.php?search=Darwin+6299.jpg+&amp;button=&amp;title=Special%3ASearch" TargetMode="External"/><Relationship Id="rId15" Type="http://schemas.openxmlformats.org/officeDocument/2006/relationships/hyperlink" Target="http://commons.wikimedia.org/w/index.php?search=Darwin+6299.jpg+&amp;button=&amp;title=Special%3ASearch" TargetMode="External"/><Relationship Id="rId16" Type="http://schemas.openxmlformats.org/officeDocument/2006/relationships/hyperlink" Target="http://commons.wikimedia.org/w/index.php?search=Darwin+6299.jpg+&amp;button=&amp;title=Special%3ASearch" TargetMode="External"/><Relationship Id="rId17" Type="http://schemas.openxmlformats.org/officeDocument/2006/relationships/hyperlink" Target="http://commons.wikimedia.org/w/index.php?search=Darwin+6299.jpg+&amp;button=&amp;title=Special%3ASearch" TargetMode="External"/><Relationship Id="rId18" Type="http://schemas.openxmlformats.org/officeDocument/2006/relationships/hyperlink" Target="http://commons.wikimedia.org/w/index.php?search=Darwin+6299.jpg+&amp;button=&amp;title=Special%3ASearch" TargetMode="External"/><Relationship Id="rId19" Type="http://schemas.openxmlformats.org/officeDocument/2006/relationships/hyperlink" Target="http://commons.wikimedia.org/w/index.php?search=Darwin+6299.jpg+&amp;button=&amp;title=Special%3ASearch" TargetMode="External"/><Relationship Id="rId20" Type="http://schemas.openxmlformats.org/officeDocument/2006/relationships/hyperlink" Target="http://commons.wikimedia.org/w/index.php?search=Darwin+6299.jpg+&amp;button=&amp;title=Special%3ASearch" TargetMode="External"/><Relationship Id="rId21" Type="http://schemas.openxmlformats.org/officeDocument/2006/relationships/hyperlink" Target="http://commons.wikimedia.org/w/index.php?search=Darwin+6299.jpg+&amp;button=&amp;title=Special%3ASearch" TargetMode="External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e/Alice_Springs_Australia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2/Alice_Springs1450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Civic_from_Mt_Ainsle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commons.wikimedia.org/wiki/Canberra" TargetMode="External"/><Relationship Id="rId4" Type="http://schemas.openxmlformats.org/officeDocument/2006/relationships/hyperlink" Target="http://commons.wikimedia.org/wiki/Canberra" TargetMode="External"/><Relationship Id="rId5" Type="http://schemas.openxmlformats.org/officeDocument/2006/relationships/hyperlink" Target="http://commons.wikimedia.org/wiki/Canberra" TargetMode="External"/><Relationship Id="rId6" Type="http://schemas.openxmlformats.org/officeDocument/2006/relationships/hyperlink" Target="http://commons.wikimedia.org/wiki/Canberra" TargetMode="External"/><Relationship Id="rId7" Type="http://schemas.openxmlformats.org/officeDocument/2006/relationships/hyperlink" Target="http://commons.wikimedia.org/wiki/Canberra" TargetMode="External"/><Relationship Id="rId8" Type="http://schemas.openxmlformats.org/officeDocument/2006/relationships/hyperlink" Target="http://commons.wikimedia.org/wiki/Canberra" TargetMode="External"/><Relationship Id="rId9" Type="http://schemas.openxmlformats.org/officeDocument/2006/relationships/hyperlink" Target="http://commons.wikimedia.org/wiki/Canberra" TargetMode="External"/><Relationship Id="rId10" Type="http://schemas.openxmlformats.org/officeDocument/2006/relationships/hyperlink" Target="http://commons.wikimedia.org/wiki/Canberra" TargetMode="External"/><Relationship Id="rId11" Type="http://schemas.openxmlformats.org/officeDocument/2006/relationships/hyperlink" Target="http://commons.wikimedia.org/wiki/Canberra" TargetMode="External"/><Relationship Id="rId12" Type="http://schemas.openxmlformats.org/officeDocument/2006/relationships/hyperlink" Target="http://commons.wikimedia.org/wiki/Canberra" TargetMode="External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c/FremantleTownHall1_gobeirne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7/70/South_Perth_Foreshore_gnangarra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ommons/" TargetMode="External"/><Relationship Id="rId2" Type="http://schemas.openxmlformats.org/officeDocument/2006/relationships/hyperlink" Target="http://www.commons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f/Ac_burleygriffin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ommons.wikimedia.org/wiki/File:Ac_burleygriffin.jpg" TargetMode="External"/><Relationship Id="rId4" Type="http://schemas.openxmlformats.org/officeDocument/2006/relationships/hyperlink" Target="http://commons.wikimedia.org/wiki/File:Ac_burleygriffin.jpg" TargetMode="External"/><Relationship Id="rId5" Type="http://schemas.openxmlformats.org/officeDocument/2006/relationships/hyperlink" Target="http://commons.wikimedia.org/wiki/File:Ac_burleygriffin.jpg" TargetMode="External"/><Relationship Id="rId6" Type="http://schemas.openxmlformats.org/officeDocument/2006/relationships/hyperlink" Target="http://commons.wikimedia.org/wiki/File:Ac_burleygriffin.jpg" TargetMode="External"/><Relationship Id="rId7" Type="http://schemas.openxmlformats.org/officeDocument/2006/relationships/hyperlink" Target="http://commons.wikimedia.org/wiki/File:Ac_burleygriffin.jpg" TargetMode="External"/><Relationship Id="rId8" Type="http://schemas.openxmlformats.org/officeDocument/2006/relationships/hyperlink" Target="http://commons.wikimedia.org/wiki/File:Ac_burleygriffin.jpg" TargetMode="External"/><Relationship Id="rId9" Type="http://schemas.openxmlformats.org/officeDocument/2006/relationships/hyperlink" Target="http://commons.wikimedia.org/wiki/File:Ac_burleygriffin.jpg" TargetMode="External"/><Relationship Id="rId10" Type="http://schemas.openxmlformats.org/officeDocument/2006/relationships/hyperlink" Target="http://commons.wikimedia.org/wiki/File:Ac_burleygriffin.jpg" TargetMode="External"/><Relationship Id="rId11" Type="http://schemas.openxmlformats.org/officeDocument/2006/relationships/hyperlink" Target="http://commons.wikimedia.org/wiki/File:Ac_burleygriffin.jpg" TargetMode="External"/><Relationship Id="rId12" Type="http://schemas.openxmlformats.org/officeDocument/2006/relationships/hyperlink" Target="http://commons.wikimedia.org/wiki/File:Ac_burleygriffin.jpg" TargetMode="External"/><Relationship Id="rId13" Type="http://schemas.openxmlformats.org/officeDocument/2006/relationships/hyperlink" Target="http://commons.wikimedia.org/wiki/File:Ac_burleygriffin.jpg" TargetMode="External"/><Relationship Id="rId14" Type="http://schemas.openxmlformats.org/officeDocument/2006/relationships/hyperlink" Target="http://commons.wikimedia.org/wiki/File:Ac_burleygriffin.jpg" TargetMode="External"/><Relationship Id="rId15" Type="http://schemas.openxmlformats.org/officeDocument/2006/relationships/hyperlink" Target="http://commons.wikimedia.org/wiki/File:Ac_burleygriffin.jpg" TargetMode="External"/><Relationship Id="rId16" Type="http://schemas.openxmlformats.org/officeDocument/2006/relationships/hyperlink" Target="http://commons.wikimedia.org/wiki/File:Ac_burleygriffin.jpg" TargetMode="External"/><Relationship Id="rId17" Type="http://schemas.openxmlformats.org/officeDocument/2006/relationships/hyperlink" Target="http://commons.wikimedia.org/wiki/File:Ac_burleygriffin.jpg" TargetMode="External"/><Relationship Id="rId18" Type="http://schemas.openxmlformats.org/officeDocument/2006/relationships/hyperlink" Target="http://commons.wikimedia.org/wiki/File:Ac_burleygriffin.jpg" TargetMode="Externa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1/Sydney_Harbour_Bridge_from_Circular_Quay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commons.wikimedia.org/w/index.php?search=sydney+harbour+bridge+from+Circular+Quay.jpg&amp;button=&amp;title=Special%3ASearch" TargetMode="External"/><Relationship Id="rId4" Type="http://schemas.openxmlformats.org/officeDocument/2006/relationships/hyperlink" Target="http://commons.wikimedia.org/w/index.php?search=sydney+harbour+bridge+from+Circular+Quay.jpg&amp;button=&amp;title=Special%3ASearch" TargetMode="External"/><Relationship Id="rId5" Type="http://schemas.openxmlformats.org/officeDocument/2006/relationships/hyperlink" Target="http://commons.wikimedia.org/w/index.php?search=sydney+harbour+bridge+from+Circular+Quay.jpg&amp;button=&amp;title=Special%3ASearch" TargetMode="External"/><Relationship Id="rId6" Type="http://schemas.openxmlformats.org/officeDocument/2006/relationships/hyperlink" Target="http://commons.wikimedia.org/w/index.php?search=sydney+harbour+bridge+from+Circular+Quay.jpg&amp;button=&amp;title=Special%3ASearch" TargetMode="External"/><Relationship Id="rId7" Type="http://schemas.openxmlformats.org/officeDocument/2006/relationships/hyperlink" Target="http://commons.wikimedia.org/w/index.php?search=sydney+harbour+bridge+from+Circular+Quay.jpg&amp;button=&amp;title=Special%3ASearch" TargetMode="External"/><Relationship Id="rId8" Type="http://schemas.openxmlformats.org/officeDocument/2006/relationships/hyperlink" Target="http://commons.wikimedia.org/w/index.php?search=sydney+harbour+bridge+from+Circular+Quay.jpg&amp;button=&amp;title=Special%3ASearch" TargetMode="External"/><Relationship Id="rId9" Type="http://schemas.openxmlformats.org/officeDocument/2006/relationships/hyperlink" Target="http://commons.wikimedia.org/w/index.php?search=sydney+harbour+bridge+from+Circular+Quay.jpg&amp;button=&amp;title=Special%3ASearch" TargetMode="External"/><Relationship Id="rId10" Type="http://schemas.openxmlformats.org/officeDocument/2006/relationships/hyperlink" Target="http://commons.wikimedia.org/w/index.php?search=sydney+harbour+bridge+from+Circular+Quay.jpg&amp;button=&amp;title=Special%3ASearch" TargetMode="External"/><Relationship Id="rId11" Type="http://schemas.openxmlformats.org/officeDocument/2006/relationships/hyperlink" Target="http://commons.wikimedia.org/w/index.php?search=sydney+harbour+bridge+from+Circular+Quay.jpg&amp;button=&amp;title=Special%3ASearch" TargetMode="External"/><Relationship Id="rId12" Type="http://schemas.openxmlformats.org/officeDocument/2006/relationships/hyperlink" Target="http://commons.wikimedia.org/w/index.php?search=sydney+harbour+bridge+from+Circular+Quay.jpg&amp;button=&amp;title=Special%3ASearch" TargetMode="External"/><Relationship Id="rId13" Type="http://schemas.openxmlformats.org/officeDocument/2006/relationships/hyperlink" Target="http://commons.wikimedia.org/w/index.php?search=sydney+harbour+bridge+from+Circular+Quay.jpg&amp;button=&amp;title=Special%3ASearch" TargetMode="External"/><Relationship Id="rId14" Type="http://schemas.openxmlformats.org/officeDocument/2006/relationships/hyperlink" Target="http://commons.wikimedia.org/w/index.php?search=sydney+harbour+bridge+from+Circular+Quay.jpg&amp;button=&amp;title=Special%3ASearch" TargetMode="External"/><Relationship Id="rId15" Type="http://schemas.openxmlformats.org/officeDocument/2006/relationships/hyperlink" Target="http://commons.wikimedia.org/w/index.php?search=sydney+harbour+bridge+from+Circular+Quay.jpg&amp;button=&amp;title=Special%3ASearch" TargetMode="External"/><Relationship Id="rId16" Type="http://schemas.openxmlformats.org/officeDocument/2006/relationships/hyperlink" Target="http://commons.wikimedia.org/w/index.php?search=sydney+harbour+bridge+from+Circular+Quay.jpg&amp;button=&amp;title=Special%3ASearch" TargetMode="External"/><Relationship Id="rId17" Type="http://schemas.openxmlformats.org/officeDocument/2006/relationships/hyperlink" Target="http://commons.wikimedia.org/w/index.php?search=sydney+harbour+bridge+from+Circular+Quay.jpg&amp;button=&amp;title=Special%3ASearch" TargetMode="External"/><Relationship Id="rId18" Type="http://schemas.openxmlformats.org/officeDocument/2006/relationships/hyperlink" Target="http://commons.wikimedia.org/w/index.php?search=sydney+harbour+bridge+from+Circular+Quay.jpg&amp;button=&amp;title=Special%3ASearch" TargetMode="External"/><Relationship Id="rId19" Type="http://schemas.openxmlformats.org/officeDocument/2006/relationships/hyperlink" Target="http://commons.wikimedia.org/w/index.php?search=sydney+harbour+bridge+from+Circular+Quay.jpg&amp;button=&amp;title=Special%3ASearch" TargetMode="External"/><Relationship Id="rId20" Type="http://schemas.openxmlformats.org/officeDocument/2006/relationships/hyperlink" Target="http://commons.wikimedia.org/w/index.php?search=sydney+harbour+bridge+from+Circular+Quay.jpg&amp;button=&amp;title=Special%3ASearch" TargetMode="External"/><Relationship Id="rId21" Type="http://schemas.openxmlformats.org/officeDocument/2006/relationships/hyperlink" Target="http://commons.wikimedia.org/w/index.php?search=sydney+harbour+bridge+from+Circular+Quay.jpg&amp;button=&amp;title=Special%3ASearch" TargetMode="External"/><Relationship Id="rId22" Type="http://schemas.openxmlformats.org/officeDocument/2006/relationships/hyperlink" Target="http://commons.wikimedia.org/w/index.php?search=sydney+harbour+bridge+from+Circular+Quay.jpg&amp;button=&amp;title=Special%3ASearch" TargetMode="External"/><Relationship Id="rId23" Type="http://schemas.openxmlformats.org/officeDocument/2006/relationships/hyperlink" Target="http://commons.wikimedia.org/w/index.php?search=sydney+harbour+bridge+from+Circular+Quay.jpg&amp;button=&amp;title=Special%3ASearch" TargetMode="External"/><Relationship Id="rId24" Type="http://schemas.openxmlformats.org/officeDocument/2006/relationships/hyperlink" Target="http://commons.wikimedia.org/w/index.php?search=sydney+harbour+bridge+from+Circular+Quay.jpg&amp;button=&amp;title=Special%3ASearch" TargetMode="External"/><Relationship Id="rId25" Type="http://schemas.openxmlformats.org/officeDocument/2006/relationships/hyperlink" Target="http://commons.wikimedia.org/w/index.php?search=sydney+harbour+bridge+from+Circular+Quay.jpg&amp;button=&amp;title=Special%3ASearch" TargetMode="External"/><Relationship Id="rId26" Type="http://schemas.openxmlformats.org/officeDocument/2006/relationships/hyperlink" Target="http://commons.wikimedia.org/w/index.php?search=sydney+harbour+bridge+from+Circular+Quay.jpg&amp;button=&amp;title=Special%3ASearch" TargetMode="External"/><Relationship Id="rId27" Type="http://schemas.openxmlformats.org/officeDocument/2006/relationships/hyperlink" Target="http://commons.wikimedia.org/w/index.php?search=sydney+harbour+bridge+from+Circular+Quay.jpg&amp;button=&amp;title=Special%3ASearch" TargetMode="External"/><Relationship Id="rId28" Type="http://schemas.openxmlformats.org/officeDocument/2006/relationships/hyperlink" Target="http://commons.wikimedia.org/w/index.php?search=sydney+harbour+bridge+from+Circular+Quay.jpg&amp;button=&amp;title=Special%3ASearch" TargetMode="External"/><Relationship Id="rId29" Type="http://schemas.openxmlformats.org/officeDocument/2006/relationships/hyperlink" Target="http://commons.wikimedia.org/w/index.php?search=sydney+harbour+bridge+from+Circular+Quay.jpg&amp;button=&amp;title=Special%3ASearch" TargetMode="External"/><Relationship Id="rId30" Type="http://schemas.openxmlformats.org/officeDocument/2006/relationships/hyperlink" Target="http://commons.wikimedia.org/w/index.php?search=sydney+harbour+bridge+from+Circular+Quay.jpg&amp;button=&amp;title=Special%3ASearch" TargetMode="External"/><Relationship Id="rId31" Type="http://schemas.openxmlformats.org/officeDocument/2006/relationships/hyperlink" Target="http://commons.wikimedia.org/w/index.php?search=sydney+harbour+bridge+from+Circular+Quay.jpg&amp;button=&amp;title=Special%3ASearch" TargetMode="External"/><Relationship Id="rId32" Type="http://schemas.openxmlformats.org/officeDocument/2006/relationships/hyperlink" Target="http://commons.wikimedia.org/w/index.php?search=sydney+harbour+bridge+from+Circular+Quay.jpg&amp;button=&amp;title=Special%3ASearch" TargetMode="External"/><Relationship Id="rId33" Type="http://schemas.openxmlformats.org/officeDocument/2006/relationships/hyperlink" Target="http://commons.wikimedia.org/w/index.php?search=sydney+harbour+bridge+from+Circular+Quay.jpg&amp;button=&amp;title=Special%3ASearch" TargetMode="External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5/MC_Sydney_Opera_House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commons.wikimedia.org/wiki/Sydney_Opera_House" TargetMode="External"/><Relationship Id="rId4" Type="http://schemas.openxmlformats.org/officeDocument/2006/relationships/hyperlink" Target="http://commons.wikimedia.org/wiki/Sydney_Opera_House" TargetMode="External"/><Relationship Id="rId5" Type="http://schemas.openxmlformats.org/officeDocument/2006/relationships/hyperlink" Target="http://commons.wikimedia.org/wiki/Sydney_Opera_House" TargetMode="External"/><Relationship Id="rId6" Type="http://schemas.openxmlformats.org/officeDocument/2006/relationships/hyperlink" Target="http://commons.wikimedia.org/wiki/Sydney_Opera_House" TargetMode="External"/><Relationship Id="rId7" Type="http://schemas.openxmlformats.org/officeDocument/2006/relationships/hyperlink" Target="http://commons.wikimedia.org/wiki/Sydney_Opera_House" TargetMode="External"/><Relationship Id="rId8" Type="http://schemas.openxmlformats.org/officeDocument/2006/relationships/hyperlink" Target="http://commons.wikimedia.org/wiki/Sydney_Opera_House" TargetMode="External"/><Relationship Id="rId9" Type="http://schemas.openxmlformats.org/officeDocument/2006/relationships/hyperlink" Target="http://commons.wikimedia.org/wiki/Sydney_Opera_House" TargetMode="External"/><Relationship Id="rId10" Type="http://schemas.openxmlformats.org/officeDocument/2006/relationships/hyperlink" Target="http://commons.wikimedia.org/wiki/Sydney_Opera_House" TargetMode="External"/><Relationship Id="rId11" Type="http://schemas.openxmlformats.org/officeDocument/2006/relationships/hyperlink" Target="http://commons.wikimedia.org/wiki/Sydney_Opera_House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71640" y="2349360"/>
            <a:ext cx="38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other c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556000" y="270828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Melbour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765000"/>
            <a:ext cx="79185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the second largest city in Austral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Yarra River flows throug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are the best schools and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people like meeting,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y like sport: Australian Open(tenn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and Prix- Formu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se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File:Melbourne yarra twiligh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8280360" cy="4205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116000" y="5516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Melbourne yarra twilight.jpg, Diliff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elbourn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yarr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wiligh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43280" y="2924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042920" y="1916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a modern city with scyscr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ly the old origin building of Parliament st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File:Brisbane CBDandSB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620640"/>
            <a:ext cx="7143840" cy="51134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826920" y="5661000"/>
            <a:ext cx="1152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Brisbane CBDandSB.jpg, Stuart Edwards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ommons.wikimedia.org/w/index.php?search=Brisbane+CBDandS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pg&amp;button=&amp;title=Special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ile:Brisbane City H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6360"/>
            <a:ext cx="7619760" cy="5300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755640" y="5877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Brisbane City Hall.jpg, Lacrimosus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w/index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?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arc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Brisban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+City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al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p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but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tit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Specia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987640" y="2781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Adela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19120" y="684360"/>
            <a:ext cx="815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95280" y="1413000"/>
            <a:ext cx="8280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arlier it was called „ the town of church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the most elegant town in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the Torrent L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a lot of cafés, bars and restaur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d they are the best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very rich cultur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a Festival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File:Adelaide torrensandfestivalcent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378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303120" y="5950080"/>
            <a:ext cx="85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Adelaide torrensandfestivalcentre.jpg, Unclespitfire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w/index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?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arc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delaid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torrensandfestivalcentr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p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but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tit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Specia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71640" y="27860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Canb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059280" y="29242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Hob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00600" y="755640"/>
            <a:ext cx="8803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the river Derwent in Hob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peace and q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town has the atmosphere of 19. centu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t this town is modern, too.There is the cas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ilding of the Parliament, the Townhall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Royal Theatre are near the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nstitution D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File:Hobart Marina MTWelling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25360"/>
            <a:ext cx="6193080" cy="388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66760" y="5229360"/>
            <a:ext cx="77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Hobart Marina MTWellington.jpg, Thomasgl, CC BY_SA 3.0,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w/index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?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arc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obar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+Marina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MTWelling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p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but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tit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Specia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03640" y="292428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63480" y="2349360"/>
            <a:ext cx="77821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city is the nearest to the equator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om all Australian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are two seasons – dry and monz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Darwin_62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836640"/>
            <a:ext cx="7200720" cy="4811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57340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Darwin 6299.jpg , Toursim NT 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w/index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?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arc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Darwin+6299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jp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+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ut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=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tit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pecia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124000" y="2852640"/>
            <a:ext cx="567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Alice Spr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File:Alice Springs Austral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305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35120" y="5950080"/>
            <a:ext cx="79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Alice Springs Australia.jpg , Johannes Püller , CC BY_SA 2.5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/index.php?search=Alice+Springs+Australia.jpg+&amp;button=&amp;title=Special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Alice_Springs14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0"/>
            <a:ext cx="3809880" cy="590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971640" y="5950080"/>
            <a:ext cx="785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Alice Springs1450.jpg, Toursim NT,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/index.php?search=Alice+Springs1450.jpg&amp;button=&amp;title=Special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492360" y="30020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Per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File:Civic from Mt Ains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449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826920" y="61657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Civic from Mt Ainsle.JPG, Petaholmes 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805320" y="1403280"/>
            <a:ext cx="7880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the river S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is very nic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is city is surrounded with the ocea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s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 port is called „Freo“- yacht 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ld houses  x  modern skyscr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450px-FremantleTownHall1_gobeir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476280"/>
            <a:ext cx="4286160" cy="5616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79280" y="6021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FremantleTownHall1 gobeirne.jpg, Greg O'Beirne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/index.php?search=FremantleTownHall1+gobeirne.jpg&amp;button=&amp;title=Special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File:South Perth Foreshore gnangarr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449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0" y="602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South Perth Foreshore gnangarra.jpg, Gnangarra 4th, CC BY_SA 2.5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iki/File:South_Perth_Foreshore_gnangarr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ttp://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mon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wikimedia.cz( 10.5.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MITH – DLUHÁ, G. a kol.: Angličtina otázky a odpovědi k maturitě.INFOA 2007. ISBN 80-7240-489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Microsoft® Off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ile:Ac burleygriff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981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76360" y="587700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Ac burleygriffin.jpg, Adam Carr , CC BY_SA 3.0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Fi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c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urleygriffi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3512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1773360"/>
            <a:ext cx="706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anber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apital of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s name comes from aboriginal orig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aning„meeting plac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lies in the bush ar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 Lake Burley 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132000" y="29242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50920" y="765000"/>
            <a:ext cx="856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the largest and the oldest city.There live1/4 of Australian inhabit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is the financial and bussines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t has two ports – th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ydney Por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otanic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 Harbour Bridg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ross Sydney port – symbol of the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 Opera Hous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–it looks like sailing 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800px-Sydney_Harbour_Bridge_from_Circular_Qu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836640"/>
            <a:ext cx="7619760" cy="4325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735120" y="530064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Sydney Harbour Bridge from Circular Quay.jpg, JJ Harrison, CC BY_SA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w/index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hp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?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arc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sydne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arbou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ridg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from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Circular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+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Qua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jp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button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=&amp;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title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=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Special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%3A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800px-MC_Sydney_Opera_Hou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907920"/>
            <a:ext cx="7619760" cy="3961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50920" y="5373720"/>
            <a:ext cx="89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e:MC Sydney Opera House.jpg, Christian Mehlführer,CC BY_SA 2.5, 10.5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mmons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m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Sydney_Opera_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8:55:13Z</dcterms:created>
  <dc:creator> </dc:creator>
  <dc:description/>
  <dc:language>en-US</dc:language>
  <cp:lastModifiedBy> </cp:lastModifiedBy>
  <dcterms:modified xsi:type="dcterms:W3CDTF">2012-09-09T16:59:24Z</dcterms:modified>
  <cp:revision>9</cp:revision>
  <dc:subject/>
  <dc:title>Snímek 1</dc:title>
</cp:coreProperties>
</file>