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D82-4319-46DF-8C52-890CFB23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F15-E372-4977-9F25-99EEE47A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A8F-B926-47DD-B68E-811046EA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C66-FC4C-4F66-8B1C-51439DEE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814-DAA6-4531-AE89-3E2BDF49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392-478D-433F-B130-4BF5F812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DC6-8E09-4EBD-BB81-AB2532F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398-6F1C-4DC8-9A21-22720120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1D4-2B4D-4A70-9E91-78E2F5D8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E34-37F9-4B9E-BDC9-26E8DBF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955-0D65-4825-8D13-C34032E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872-C478-4820-873A-7F72E25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AE78-963B-4AAF-A8B8-7065DBA1FFD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etunie%20kviz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Petunia_x_hybrida_a1.JPG" TargetMode="External"/><Relationship Id="rId2" Type="http://schemas.openxmlformats.org/officeDocument/2006/relationships/hyperlink" Target="http://commons.wikimedia.org/wiki/User:Fanghong" TargetMode="External"/><Relationship Id="rId3" Type="http://schemas.openxmlformats.org/officeDocument/2006/relationships/hyperlink" Target="http://commons.wikimedia.org/wiki/File:PetuniaHybridaPiebald2.jpg" TargetMode="External"/><Relationship Id="rId4" Type="http://schemas.openxmlformats.org/officeDocument/2006/relationships/hyperlink" Target="http://commons.wikimedia.org/wiki/User:Fanghong" TargetMode="External"/><Relationship Id="rId5" Type="http://schemas.openxmlformats.org/officeDocument/2006/relationships/hyperlink" Target="http://commons.wikimedia.org/wiki/File:PetuniaHybrida5.jpg" TargetMode="External"/><Relationship Id="rId6" Type="http://schemas.openxmlformats.org/officeDocument/2006/relationships/hyperlink" Target="file://upload.wikimedia.org/wikipedia/commons/d/d8/Petunia.jpg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d/Petunia_x_hybrida_a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PetuniaHybridaPiebald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b/PetuniaHybrida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8/Petuni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8/Petunia_purpl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4/Petunia_hybrida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2/Pink_petunia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f/Petunia_pink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etunia x hyb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t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unie kviz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ráz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1 - Jerzy Opioła Jerzy Opioła; Petunia x hybrida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mons.wikimedia.org/wiki/File:Petunia_x_hybrida_a1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2 - Photo taken b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nghon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Double wave flowers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iki/File:PetuniaHybridaPiebald2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3 - Taken b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nghon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Petunia flowers;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ons.wikimedia.org/wiki/File:PetuniaHybrida5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4 -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Full resolu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http://commons.wikimedia.org/wiki/File:Petunia.jpg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5 – User Ellywa; Purple petunia; http://commons.wikimedia.org/wiki/File:Petunia_purple.JPG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6 - Kurt Stüber;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etunia hybrid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http://commons.wikimedia.org/wiki/File:Petunia_hybrida0.jpg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7 - Albury Botanical Gardens; Pink Petunias; http://commons.wikimedia.org/wiki/File:Pink_petunias.jpg; CC BY – SA 3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. 8 - Own picture; Pink Petunia; http://commons.wikimedia.org/wiki/File:Petunia_pink.JPG; CC BY –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obsah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"Microsoft (r) Office„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File:Petunia x hybrida a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596360" y="58546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p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ška do 3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istují i převisl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sty vejč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loupka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ile:PetuniaHybridaPiebald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2924280"/>
            <a:ext cx="4962240" cy="372276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1"/>
          <p:cNvSpPr/>
          <p:nvPr/>
        </p:nvSpPr>
        <p:spPr>
          <a:xfrm>
            <a:off x="7667640" y="623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File:PetuniaHybrida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84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1"/>
          <p:cNvSpPr/>
          <p:nvPr/>
        </p:nvSpPr>
        <p:spPr>
          <a:xfrm>
            <a:off x="7524720" y="57643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eten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rven – ří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ěty široce zvonko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 různých barvá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vícebarev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ství kultiva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duch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plnokvě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File:Petun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781360"/>
            <a:ext cx="3980160" cy="377676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1"/>
          <p:cNvSpPr/>
          <p:nvPr/>
        </p:nvSpPr>
        <p:spPr>
          <a:xfrm>
            <a:off x="7885080" y="6154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ile:Petunia pur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TextovéPole 1"/>
          <p:cNvSpPr/>
          <p:nvPr/>
        </p:nvSpPr>
        <p:spPr>
          <a:xfrm>
            <a:off x="7451640" y="587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ro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unce, živná pů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le:Petunia hybrida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222640"/>
            <a:ext cx="5880240" cy="4410000"/>
          </a:xfrm>
          <a:prstGeom prst="rect">
            <a:avLst/>
          </a:prstGeom>
          <a:ln w="0">
            <a:noFill/>
          </a:ln>
        </p:spPr>
      </p:pic>
      <p:sp>
        <p:nvSpPr>
          <p:cNvPr id="60" name="TextovéPole 1"/>
          <p:cNvSpPr/>
          <p:nvPr/>
        </p:nvSpPr>
        <p:spPr>
          <a:xfrm>
            <a:off x="6732720" y="6165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ěstován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ev v únoru do truh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pi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me zaštip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adba na záho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olovině květ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ile:Pink petunia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429000"/>
            <a:ext cx="4530600" cy="3024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1"/>
          <p:cNvSpPr/>
          <p:nvPr/>
        </p:nvSpPr>
        <p:spPr>
          <a:xfrm>
            <a:off x="8244000" y="60706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í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nád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záhon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ile:Petunia pin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276640"/>
            <a:ext cx="5754960" cy="431640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1"/>
          <p:cNvSpPr/>
          <p:nvPr/>
        </p:nvSpPr>
        <p:spPr>
          <a:xfrm>
            <a:off x="8101080" y="62071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42:58Z</dcterms:created>
  <dc:creator>Uživatel 7</dc:creator>
  <dc:description/>
  <dc:language>en-US</dc:language>
  <cp:lastModifiedBy>Uživatel 7</cp:lastModifiedBy>
  <dcterms:modified xsi:type="dcterms:W3CDTF">2012-05-18T05:35:20Z</dcterms:modified>
  <cp:revision>5</cp:revision>
  <dc:subject/>
  <dc:title>Petunia x hybrida </dc:title>
</cp:coreProperties>
</file>