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3CD-ED07-4C47-A3C4-5F498A8C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308-4867-4A6C-9839-34476B66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60D-A571-4D4B-A231-8AA5A9E4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6D4-2B64-4906-A7D7-3A329858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640-50FE-4BEE-B8D6-3F7A1AEC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48B-8000-4FEF-A3BC-58F13871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E69-3534-4911-863F-4DE52C9C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459-69C0-47C4-A732-91E35D9E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1A9-C5C3-463D-9061-592F9D4E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83D-FF44-41C7-B14C-4DDAA32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7D5-17A4-4DBF-A420-7F0C7C6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DC5-F08F-4842-8A80-5D42819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2C4-B0D1-4584-809B-E1688CD1E8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Thailand" TargetMode="External"/><Relationship Id="rId2" Type="http://schemas.openxmlformats.org/officeDocument/2006/relationships/hyperlink" Target="http://commons.wikimedia.org/wiki/Thailand" TargetMode="External"/><Relationship Id="rId3" Type="http://schemas.openxmlformats.org/officeDocument/2006/relationships/hyperlink" Target="http://commons.wikimedia.org/wiki/File:Gardenology.org-IMG_8351_qsbg11mar.jpg" TargetMode="External"/><Relationship Id="rId4" Type="http://schemas.openxmlformats.org/officeDocument/2006/relationships/hyperlink" Target="http://commons.wikimedia.org/wiki/Thailand" TargetMode="External"/><Relationship Id="rId5" Type="http://schemas.openxmlformats.org/officeDocument/2006/relationships/hyperlink" Target="http://commons.wikimedia.org/wiki/File:Gardenology.org-IMG_8350_qsbg11mar.jpg" TargetMode="External"/><Relationship Id="rId6" Type="http://schemas.openxmlformats.org/officeDocument/2006/relationships/hyperlink" Target="http://commons.wikimedia.org/wiki/User:Ebyabe" TargetMode="External"/><Relationship Id="rId7" Type="http://schemas.openxmlformats.org/officeDocument/2006/relationships/hyperlink" Target="file://en.wikipedia.org/wiki/Archer,_Florida" TargetMode="External"/><Relationship Id="rId8" Type="http://schemas.openxmlformats.org/officeDocument/2006/relationships/hyperlink" Target="http://commons.wikimedia.org/wiki/File:Archer_FL_flower_purple02.jpg" TargetMode="External"/><Relationship Id="rId9" Type="http://schemas.openxmlformats.org/officeDocument/2006/relationships/hyperlink" Target="http://commons.wikimedia.org/wiki/User:Tim_Ross" TargetMode="External"/><Relationship Id="rId10" Type="http://schemas.openxmlformats.org/officeDocument/2006/relationships/hyperlink" Target="http://commons.wikimedia.org/wiki/File:PDrummondiiNFla2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Gardenology.org-IMG_8351_qsbg11ma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f/Gardenology.org-IMG_8350_qsbg11ma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a/Archer_FL_flower_purple0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0/PDrummondiiNFla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0/Flowers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e/P&#259;ng_x&#234;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hlox drummond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amen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ráz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1 - Raffi Kojian; Photographed at the Queen Sirikit Botanic Garden (Chiang Mai Province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ailan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hotographed at the Queen Sirikit Botanic Garden (Chiang Mai Province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ailan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mmons.wikimedia.org/wiki/File:Gardenology.org-IMG_8351_qsbg11mar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2 - Raffi Kojian; Photographed at the Queen Sirikit Botanic Garden (Chiang Mai Province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ailan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ons.wikimedia.org/wiki/File:Gardenology.org-IMG_8350_qsbg11mar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3 –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byab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cher, Florid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Flower next to the Archer Historical Society Museum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ommons.wikimedia.org/wiki/File:Archer_FL_flower_purple02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4 -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im Ros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hlox drummondi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commons.wikimedia.org/wiki/File:PDrummondiiNFla2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5 - Original uploader wa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eeli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n.wikipedi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I am the originator of this photo. I hold the copyright. I release it to the public domain. This photo depicts flowers.; http://commons.wikimedia.org/wiki/File:Flowers7.jpg?uselang=cs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6 - Casablanca1911; Hoa păng xê; http://commons.wikimedia.org/wiki/File:P%C4%83ng_x%C3%AA.JPG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ečné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ástupný symbol pro obsah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 je určen pro bezplatné používání pro potřeby výuky a vzdělávání na všech typech škol a školských zařízeních. Jakékoliv další využití podléhá autorskému záko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statní objekty a text je vlastní originální tvorbou autora nebo jsou součástí softwaru "Microsoft (r) Office„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File:Gardenology.org-IMG 8351 qsbg11m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524720" y="5877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p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ška 25 – 60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iroce keřovitý vzrů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sedlé, jasně zelené špičaté lis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File:Gardenology.org-IMG 8350 qsbg11m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1"/>
          <p:cNvSpPr/>
          <p:nvPr/>
        </p:nvSpPr>
        <p:spPr>
          <a:xfrm>
            <a:off x="7524720" y="58374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veten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rven – zá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ěty až 3 cm velké jsou ve vrcho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rva bílá, růžová, červená, fialová i žíha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ile:Archer FL flower purpl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xtovéPole 1"/>
          <p:cNvSpPr/>
          <p:nvPr/>
        </p:nvSpPr>
        <p:spPr>
          <a:xfrm>
            <a:off x="7596360" y="5837400"/>
            <a:ext cx="7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ro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unce, nenáročný, snese suc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ile:PDrummondiiNFla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421000"/>
            <a:ext cx="4373640" cy="4252680"/>
          </a:xfrm>
          <a:prstGeom prst="rect">
            <a:avLst/>
          </a:prstGeom>
          <a:ln w="0">
            <a:noFill/>
          </a:ln>
        </p:spPr>
      </p:pic>
      <p:sp>
        <p:nvSpPr>
          <p:cNvPr id="56" name="TextovéPole 1"/>
          <p:cNvSpPr/>
          <p:nvPr/>
        </p:nvSpPr>
        <p:spPr>
          <a:xfrm>
            <a:off x="6124680" y="62784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ěstován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ev v únoru do truh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adba na záhony již v polovině dubna – snáší i mírný mrazí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ile:Flowers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3357720"/>
            <a:ext cx="4457880" cy="3342960"/>
          </a:xfrm>
          <a:prstGeom prst="rect">
            <a:avLst/>
          </a:prstGeom>
          <a:ln w="0">
            <a:noFill/>
          </a:ln>
        </p:spPr>
      </p:pic>
      <p:sp>
        <p:nvSpPr>
          <p:cNvPr id="60" name="TextovéPole 1"/>
          <p:cNvSpPr/>
          <p:nvPr/>
        </p:nvSpPr>
        <p:spPr>
          <a:xfrm>
            <a:off x="7812000" y="6308640"/>
            <a:ext cx="6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žší: na skalky a zíd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: na záhony a k řez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le:Păng xê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71720"/>
            <a:ext cx="5022720" cy="37767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1"/>
          <p:cNvSpPr/>
          <p:nvPr/>
        </p:nvSpPr>
        <p:spPr>
          <a:xfrm>
            <a:off x="7667640" y="62784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7:53:25Z</dcterms:created>
  <dc:creator>Uživatel 7</dc:creator>
  <dc:description/>
  <dc:language>en-US</dc:language>
  <cp:lastModifiedBy>Uživatel 7</cp:lastModifiedBy>
  <dcterms:modified xsi:type="dcterms:W3CDTF">2012-05-18T05:35:47Z</dcterms:modified>
  <cp:revision>6</cp:revision>
  <dc:subject/>
  <dc:title>Phlox drumondii </dc:title>
</cp:coreProperties>
</file>